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216-44ED-45A4-A2CF-3BB450A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346-E11E-4FB7-B555-11A9D22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894-1210-4B7E-8075-6BF6113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C82-FAA2-4B43-8705-FAEF608F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715-D11B-4452-8C30-7DAE4FED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76D-B1E3-433E-A406-B5E8396C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9EB-52B9-48F3-A1E7-9B60B0C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8CB-6C96-49E5-BE98-7660066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6D9-AA9E-4BE3-B21A-E10F5BD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EC7-1DC7-4314-9363-A5E8451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575-1CA2-4FB6-BAFA-21A6DD8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CCB-063E-478C-B99C-D357244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8EA-53F0-40B7-903C-78C555896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10:28:55Z</dcterms:created>
  <dc:creator>Рублев Евгений Валентинович</dc:creator>
  <dc:description/>
  <dc:language>en-US</dc:language>
  <cp:lastModifiedBy>Рублев Евгений Валентинович</cp:lastModifiedBy>
  <dcterms:modified xsi:type="dcterms:W3CDTF">2022-06-23T11:31:43Z</dcterms:modified>
  <cp:revision>2</cp:revision>
  <dc:subject/>
  <dc:title>Презентация PowerPoint</dc:title>
</cp:coreProperties>
</file>