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E2C5-5D6F-4F25-A0F5-BE6523E868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D935-DFC5-4B36-A26B-7917DD9F9D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3F0-A00A-4779-9AAF-D9638CF162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3CD-7451-4778-A5B2-EDA3349621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B4F-3A3A-4CF4-8644-A2D808A4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6BC-5B3A-4578-B832-ED0623FF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CA2-620B-4F7A-B8B1-AD241E09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CBD-CD4C-4442-8519-1BA68AE4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0E94-8B78-410E-8BE7-DC14D40E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A357-5A2B-4609-9A3D-723173B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DE5F-FDE7-404C-A1ED-ADDC1BF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2992-587F-4462-BF56-9A04F20C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9E7E-0341-4958-9801-AD6F660E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C033-04C3-41C0-869D-C84DC40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4689-0E61-46D4-88B5-E27D3ABB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E68-D97B-4FF1-8D2F-7C23C452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5A96-5991-4F7A-A311-262DD12B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3DA0-9A9B-47AA-87F5-5A59C27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82C2-8BA6-4639-BCF1-28BBB44D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5A79-C1FA-49FA-9C81-62E83E44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FE48-DBF6-4109-8B3E-10FDEC52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052E2-DDF3-4940-8E43-8AC80442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C733-23A8-4B3C-AC14-E79F0EAB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9016-43A9-4F4C-8F23-30DF454E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D924-D746-4791-AB0F-E23C15BC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56B2-818B-492B-A9E8-9F77B399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337-D8BA-4106-9935-EF7D8159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638C-1002-42EB-83A3-7D15118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BCCB-2013-413E-8F9A-211547D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ABFC-2874-427A-BC1D-80D0D67D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397C-0A6A-41BA-8399-87834C5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F232-AFDC-490E-86EA-62D7B7AA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AACD8-8F1D-4C34-BB04-E3B8D422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6D5A-9CEA-4C53-B0E7-294AB3A6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AA77-08B5-4DA2-B487-B630A255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C508-F9AF-4FF5-83A1-4049F8B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41753-0F95-4383-A40E-FE888186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789-8D5D-4731-9FB2-45E10D02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A354-87CD-4604-BCC1-490745BD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DDE97-2059-41B6-8A1D-FE11B4E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BF06-5A61-420A-B82D-FDC6735C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C047A-8790-4B24-AD8E-1EFD5B3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3789-325F-443D-9AFF-D508A095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49F4-ADBE-4B29-BFE1-520469A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69C2-8C35-43E1-85A8-5FCD9EEF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F5B5-80F0-4F1F-9128-771EC305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D77B-F43B-409F-A54D-41AC205A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03FA-5451-44B0-91F8-2255A4D1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1F3-F3EA-45A2-9C66-EDC78BA9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C70C-22D1-446C-821C-C8810F59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52CA4-EFB2-4454-901A-F6119868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FC4DD-5B2A-4DEB-8290-70751877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A62A5-8D0B-49B8-B283-C85E694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DFA53-B8EA-45C7-9362-2FB77189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2CB2-87BB-454A-A114-F56A66E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2BE3-2895-4303-B27B-C7B140A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7D891-28B0-43F4-A23A-D6623DD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81339-8D03-42DF-9B63-4B6EC4A2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112D5-CA9C-4BB5-9325-2EDD10E9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9E4-0DB8-4192-BB28-314B7B26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40FB-4161-41CF-8775-2A63FB7C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C26-8963-4C74-84A7-14B8EF8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626-1BFF-4A52-AC9D-A86B968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457-939F-4029-A8DC-C6929AE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F06C-B189-4BC8-9174-96A552FC074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11" descr=""/>
          <p:cNvPicPr/>
          <p:nvPr/>
        </p:nvPicPr>
        <p:blipFill>
          <a:blip r:embed="rId2"/>
          <a:srcRect l="0" t="32369" r="66255" b="0"/>
          <a:stretch/>
        </p:blipFill>
        <p:spPr>
          <a:xfrm>
            <a:off x="0" y="0"/>
            <a:ext cx="1736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217F-E93F-4D9A-AD9B-75CB05D51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3549-1D61-4283-8DC9-4D5E3588B5C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2"/>
          <a:srcRect l="0" t="32369" r="66255" b="0"/>
          <a:stretch/>
        </p:blipFill>
        <p:spPr>
          <a:xfrm>
            <a:off x="0" y="0"/>
            <a:ext cx="1736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9265-E41B-495E-BC04-E2FD5E173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53F0-AED2-4781-A23F-A903F6D7BC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Coat_of_Arms_of_Voronezh_oblast_(2005).png"/>
          <p:cNvPicPr/>
          <p:nvPr/>
        </p:nvPicPr>
        <p:blipFill>
          <a:blip r:embed="rId2"/>
          <a:stretch/>
        </p:blipFill>
        <p:spPr>
          <a:xfrm>
            <a:off x="4057560" y="704880"/>
            <a:ext cx="1149480" cy="95868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779400" y="2695680"/>
            <a:ext cx="8093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ОБЕСПЕЧЕНИЕ ПОТРЕБНОСТЕЙ ГОСУДАРСТВЕННЫХ (МУНИЦИПАЛЬНЫХ) ЗАКАЗЧИКОВ В ПЕРИОД ДЕЙСТВИЯ ЭКОНОМИЧЕСКИХ САНК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-336960" y="5089320"/>
            <a:ext cx="5543640" cy="83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чаров Евгений Николае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одзаголовок 2"/>
          <p:cNvSpPr/>
          <p:nvPr/>
        </p:nvSpPr>
        <p:spPr>
          <a:xfrm>
            <a:off x="287280" y="5508720"/>
            <a:ext cx="5543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управления по регулированию контрактной системы в сфере закупок Воронеж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дзаголовок 2"/>
          <p:cNvSpPr/>
          <p:nvPr/>
        </p:nvSpPr>
        <p:spPr>
          <a:xfrm>
            <a:off x="1606680" y="1663560"/>
            <a:ext cx="62071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е по регулированию контрактной системы в сфере закупок Воронеж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38"/>
          <p:cNvGrpSpPr/>
          <p:nvPr/>
        </p:nvGrpSpPr>
        <p:grpSpPr>
          <a:xfrm>
            <a:off x="2548080" y="4803840"/>
            <a:ext cx="4035240" cy="1719360"/>
            <a:chOff x="2548080" y="4803840"/>
            <a:chExt cx="4035240" cy="1719360"/>
          </a:xfrm>
        </p:grpSpPr>
        <p:pic>
          <p:nvPicPr>
            <p:cNvPr id="221" name="Прямоугольник 38" descr=""/>
            <p:cNvPicPr/>
            <p:nvPr/>
          </p:nvPicPr>
          <p:blipFill>
            <a:blip r:embed="rId1"/>
            <a:stretch/>
          </p:blipFill>
          <p:spPr>
            <a:xfrm>
              <a:off x="2548080" y="4803840"/>
              <a:ext cx="403524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570040" y="4826160"/>
              <a:ext cx="398160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800" spc="-1" strike="noStrike">
                  <a:solidFill>
                    <a:srgbClr val="203864"/>
                  </a:solidFill>
                  <a:latin typeface="Times New Roman"/>
                  <a:ea typeface="Times New Roman"/>
                </a:rPr>
                <a:t>Предоставление </a:t>
              </a: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в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убъектам РФ </a:t>
              </a:r>
              <a:r>
                <a:rPr b="0" lang="ru-RU" sz="1800" spc="-1" strike="noStrike">
                  <a:solidFill>
                    <a:srgbClr val="203864"/>
                  </a:solidFill>
                  <a:latin typeface="Times New Roman"/>
                  <a:ea typeface="Times New Roman"/>
                </a:rPr>
                <a:t>устанавливать</a:t>
              </a:r>
              <a:r>
                <a:rPr b="1" lang="ru-RU" sz="1800" spc="-1" strike="noStrike">
                  <a:solidFill>
                    <a:srgbClr val="203864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иные случаи закуп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единственного поставщ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Скругленный прямоугольник 33"/>
          <p:cNvSpPr/>
          <p:nvPr/>
        </p:nvSpPr>
        <p:spPr>
          <a:xfrm>
            <a:off x="2846520" y="4378320"/>
            <a:ext cx="3369960" cy="79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4140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ширение перечня закупок у единственного поставщи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ом числ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51"/>
          <p:cNvSpPr/>
          <p:nvPr/>
        </p:nvSpPr>
        <p:spPr>
          <a:xfrm flipV="1">
            <a:off x="4586400" y="3976200"/>
            <a:ext cx="0" cy="45900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84200" y="-360"/>
            <a:ext cx="80503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Закупки в условиях действия экономических санкций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8602560" y="152280"/>
            <a:ext cx="3812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8"/>
          <p:cNvSpPr/>
          <p:nvPr/>
        </p:nvSpPr>
        <p:spPr>
          <a:xfrm>
            <a:off x="603360" y="4513320"/>
            <a:ext cx="31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Вертикальный свиток 31"/>
          <p:cNvSpPr/>
          <p:nvPr/>
        </p:nvSpPr>
        <p:spPr>
          <a:xfrm>
            <a:off x="2728800" y="2930400"/>
            <a:ext cx="3713400" cy="1184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деральный закон от 08.03.202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№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6-ФЗ «О внесении изменений в отдельные законодательные акты Российской Фед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ятиугольник 47" descr=""/>
          <p:cNvPicPr/>
          <p:nvPr/>
        </p:nvPicPr>
        <p:blipFill>
          <a:blip r:embed="rId2"/>
          <a:stretch/>
        </p:blipFill>
        <p:spPr>
          <a:xfrm>
            <a:off x="1401840" y="2030400"/>
            <a:ext cx="6510240" cy="1041480"/>
          </a:xfrm>
          <a:prstGeom prst="rect">
            <a:avLst/>
          </a:prstGeom>
          <a:ln w="0">
            <a:noFill/>
          </a:ln>
        </p:spPr>
      </p:pic>
      <p:sp>
        <p:nvSpPr>
          <p:cNvPr id="230" name="Скругленный прямоугольник 34"/>
          <p:cNvSpPr/>
          <p:nvPr/>
        </p:nvSpPr>
        <p:spPr>
          <a:xfrm>
            <a:off x="252360" y="3351240"/>
            <a:ext cx="22608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c91cd"/>
              </a:gs>
              <a:gs pos="100000">
                <a:srgbClr val="627eca"/>
              </a:gs>
            </a:gsLst>
            <a:lin ang="5400000"/>
          </a:gradFill>
          <a:ln w="4140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личение лимитов на запрос котировок для медицинских тов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24"/>
          <p:cNvSpPr/>
          <p:nvPr/>
        </p:nvSpPr>
        <p:spPr>
          <a:xfrm>
            <a:off x="6613560" y="3348000"/>
            <a:ext cx="2300400" cy="99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4140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ев изменения существенных условий контра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36"/>
          <p:cNvSpPr/>
          <p:nvPr/>
        </p:nvSpPr>
        <p:spPr>
          <a:xfrm>
            <a:off x="6634080" y="5087880"/>
            <a:ext cx="2298960" cy="89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4140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ание неусто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-за сан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37"/>
          <p:cNvSpPr/>
          <p:nvPr/>
        </p:nvSpPr>
        <p:spPr>
          <a:xfrm>
            <a:off x="287280" y="5056200"/>
            <a:ext cx="2190960" cy="86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e75b6"/>
              </a:gs>
              <a:gs pos="100000">
                <a:srgbClr val="bdd7ee"/>
              </a:gs>
            </a:gsLst>
            <a:lin ang="16200000"/>
          </a:gradFill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ков опл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гнутая влево стрелка 40"/>
          <p:cNvSpPr/>
          <p:nvPr/>
        </p:nvSpPr>
        <p:spPr>
          <a:xfrm flipH="1">
            <a:off x="7728840" y="1542960"/>
            <a:ext cx="1268280" cy="884160"/>
          </a:xfrm>
          <a:custGeom>
            <a:avLst/>
            <a:gdLst>
              <a:gd name="textAreaLeft" fmla="*/ 169920 w 1268280"/>
              <a:gd name="textAreaRight" fmla="*/ 1098360 w 1268280"/>
              <a:gd name="textAreaTop" fmla="*/ 137880 h 884160"/>
              <a:gd name="textAreaBottom" fmla="*/ 635400 h 88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28643"/>
                <a:lnTo>
                  <a:pt x="17836" y="21497"/>
                </a:lnTo>
                <a:lnTo>
                  <a:pt x="21600" y="16200"/>
                </a:lnTo>
                <a:lnTo>
                  <a:pt x="17836" y="10697"/>
                </a:lnTo>
                <a:lnTo>
                  <a:pt x="17836" y="13397"/>
                </a:lnTo>
                <a:arcTo wR="21600" hR="6750" stAng="7171357" swAng="3162657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гнутая влево стрелка 39"/>
          <p:cNvSpPr/>
          <p:nvPr/>
        </p:nvSpPr>
        <p:spPr>
          <a:xfrm>
            <a:off x="244440" y="1542960"/>
            <a:ext cx="1266840" cy="884160"/>
          </a:xfrm>
          <a:custGeom>
            <a:avLst/>
            <a:gdLst>
              <a:gd name="textAreaLeft" fmla="*/ 169560 w 1266840"/>
              <a:gd name="textAreaRight" fmla="*/ 1097280 w 1266840"/>
              <a:gd name="textAreaTop" fmla="*/ 137880 h 884160"/>
              <a:gd name="textAreaBottom" fmla="*/ 635400 h 88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26624"/>
                <a:lnTo>
                  <a:pt x="17831" y="21496"/>
                </a:lnTo>
                <a:lnTo>
                  <a:pt x="21600" y="16200"/>
                </a:lnTo>
                <a:lnTo>
                  <a:pt x="17831" y="10696"/>
                </a:lnTo>
                <a:lnTo>
                  <a:pt x="17831" y="13396"/>
                </a:lnTo>
                <a:arcTo wR="21600" hR="6750" stAng="7173376" swAng="316063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Блок-схема: магнитный диск 12"/>
          <p:cNvSpPr/>
          <p:nvPr/>
        </p:nvSpPr>
        <p:spPr>
          <a:xfrm>
            <a:off x="1486080" y="1192320"/>
            <a:ext cx="6264000" cy="858600"/>
          </a:xfrm>
          <a:prstGeom prst="flowChartMagneticDisk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рет ввоза иностранных товар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й и обору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0"/>
          <p:cNvSpPr/>
          <p:nvPr/>
        </p:nvSpPr>
        <p:spPr>
          <a:xfrm>
            <a:off x="2379600" y="736560"/>
            <a:ext cx="4254480" cy="696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ОНОМИЧЕСКИЕ СА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ОТНОШЕНИ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2"/>
          <p:cNvSpPr/>
          <p:nvPr/>
        </p:nvSpPr>
        <p:spPr>
          <a:xfrm flipV="1">
            <a:off x="2513160" y="3522240"/>
            <a:ext cx="365040" cy="32724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43"/>
          <p:cNvSpPr/>
          <p:nvPr/>
        </p:nvSpPr>
        <p:spPr>
          <a:xfrm flipV="1">
            <a:off x="1924200" y="4114440"/>
            <a:ext cx="954000" cy="91764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48"/>
          <p:cNvSpPr/>
          <p:nvPr/>
        </p:nvSpPr>
        <p:spPr>
          <a:xfrm flipH="1" flipV="1">
            <a:off x="6289200" y="3580920"/>
            <a:ext cx="365400" cy="32724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50"/>
          <p:cNvSpPr/>
          <p:nvPr/>
        </p:nvSpPr>
        <p:spPr>
          <a:xfrm flipH="1" flipV="1">
            <a:off x="6262200" y="4114440"/>
            <a:ext cx="1025640" cy="97308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18" descr=""/>
          <p:cNvPicPr/>
          <p:nvPr/>
        </p:nvPicPr>
        <p:blipFill>
          <a:blip r:embed="rId3"/>
          <a:stretch/>
        </p:blipFill>
        <p:spPr>
          <a:xfrm>
            <a:off x="6188040" y="542880"/>
            <a:ext cx="1077840" cy="895320"/>
          </a:xfrm>
          <a:prstGeom prst="rect">
            <a:avLst/>
          </a:prstGeom>
          <a:ln w="0">
            <a:noFill/>
          </a:ln>
        </p:spPr>
      </p:pic>
      <p:grpSp>
        <p:nvGrpSpPr>
          <p:cNvPr id="243" name="Группа 7168"/>
          <p:cNvGrpSpPr/>
          <p:nvPr/>
        </p:nvGrpSpPr>
        <p:grpSpPr>
          <a:xfrm>
            <a:off x="6775560" y="1319040"/>
            <a:ext cx="903240" cy="712800"/>
            <a:chOff x="6775560" y="1319040"/>
            <a:chExt cx="903240" cy="712800"/>
          </a:xfrm>
        </p:grpSpPr>
        <p:sp>
          <p:nvSpPr>
            <p:cNvPr id="244" name="Овал 7167"/>
            <p:cNvSpPr/>
            <p:nvPr/>
          </p:nvSpPr>
          <p:spPr>
            <a:xfrm>
              <a:off x="6939000" y="1396800"/>
              <a:ext cx="569880" cy="55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Рисунок 27" descr=""/>
            <p:cNvPicPr/>
            <p:nvPr/>
          </p:nvPicPr>
          <p:blipFill>
            <a:blip r:embed="rId4"/>
            <a:stretch/>
          </p:blipFill>
          <p:spPr>
            <a:xfrm>
              <a:off x="6775560" y="1319040"/>
              <a:ext cx="903240" cy="71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29" descr="C:\Users\mvstudenikina\Desktop\Картинки\импорт 2.png"/>
          <p:cNvPicPr/>
          <p:nvPr/>
        </p:nvPicPr>
        <p:blipFill>
          <a:blip r:embed="rId5"/>
          <a:stretch/>
        </p:blipFill>
        <p:spPr>
          <a:xfrm>
            <a:off x="1603440" y="1192320"/>
            <a:ext cx="83340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ая соединительная линия 52"/>
          <p:cNvSpPr/>
          <p:nvPr/>
        </p:nvSpPr>
        <p:spPr>
          <a:xfrm flipV="1">
            <a:off x="731880" y="1752480"/>
            <a:ext cx="0" cy="4283280"/>
          </a:xfrm>
          <a:prstGeom prst="line">
            <a:avLst/>
          </a:prstGeom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головок 3"/>
          <p:cNvSpPr/>
          <p:nvPr/>
        </p:nvSpPr>
        <p:spPr>
          <a:xfrm>
            <a:off x="484200" y="-15840"/>
            <a:ext cx="80503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Варианты реализации права по установлению иных случаев закупок у единственного поставщика в субъектах Р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8602560" y="152280"/>
            <a:ext cx="3812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438360" y="1349280"/>
            <a:ext cx="4508640" cy="852480"/>
          </a:xfrm>
          <a:prstGeom prst="rect">
            <a:avLst/>
          </a:prstGeom>
          <a:solidFill>
            <a:srgbClr val="f2f2f2"/>
          </a:solidFill>
          <a:ln w="3492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marL="12574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рядок принятия решения по заключению контракта с единственным поставщ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ятиугольник 7"/>
          <p:cNvSpPr/>
          <p:nvPr/>
        </p:nvSpPr>
        <p:spPr>
          <a:xfrm>
            <a:off x="1406520" y="1349280"/>
            <a:ext cx="3394080" cy="824040"/>
          </a:xfrm>
          <a:custGeom>
            <a:avLst/>
            <a:gdLst>
              <a:gd name="textAreaLeft" fmla="*/ 0 w 3394080"/>
              <a:gd name="textAreaRight" fmla="*/ 3394440 w 3394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15" y="0"/>
                </a:lnTo>
                <a:lnTo>
                  <a:pt x="21600" y="10800"/>
                </a:lnTo>
                <a:lnTo>
                  <a:pt x="205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ef"/>
          </a:solidFill>
          <a:ln w="5400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СТАНО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179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дополнительных случаев закупок у единственного поставщ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5364360" y="2187720"/>
            <a:ext cx="30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о закупке принима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52520" y="2163600"/>
            <a:ext cx="48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купки у единственного поставщ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20"/>
          <p:cNvSpPr/>
          <p:nvPr/>
        </p:nvSpPr>
        <p:spPr>
          <a:xfrm>
            <a:off x="5483160" y="2774880"/>
            <a:ext cx="2768760" cy="87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7c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ительный орган государственной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ятиугольник 21"/>
          <p:cNvSpPr/>
          <p:nvPr/>
        </p:nvSpPr>
        <p:spPr>
          <a:xfrm>
            <a:off x="5483160" y="2525760"/>
            <a:ext cx="1406520" cy="377640"/>
          </a:xfrm>
          <a:custGeom>
            <a:avLst/>
            <a:gdLst>
              <a:gd name="textAreaLeft" fmla="*/ 0 w 1406520"/>
              <a:gd name="textAreaRight" fmla="*/ 1406880 w 14065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9" y="0"/>
                </a:lnTo>
                <a:lnTo>
                  <a:pt x="21600" y="10800"/>
                </a:lnTo>
                <a:lnTo>
                  <a:pt x="186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0cece"/>
              </a:gs>
              <a:gs pos="100000">
                <a:srgbClr val="afabab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3838"/>
                </a:solidFill>
                <a:latin typeface="Times New Roman"/>
                <a:ea typeface="Microsoft YaHei"/>
              </a:rPr>
              <a:t> </a:t>
            </a:r>
            <a:r>
              <a:rPr b="1" lang="ru-RU" sz="1400" spc="-1" strike="noStrike">
                <a:solidFill>
                  <a:srgbClr val="3b3838"/>
                </a:solidFill>
                <a:latin typeface="Times New Roman"/>
                <a:ea typeface="Microsoft YaHei"/>
              </a:rPr>
              <a:t>ВАРИАН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22"/>
          <p:cNvSpPr/>
          <p:nvPr/>
        </p:nvSpPr>
        <p:spPr>
          <a:xfrm>
            <a:off x="5491080" y="4024440"/>
            <a:ext cx="2760840" cy="98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7c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сший исполнительный орган государственной власти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ятиугольник 23"/>
          <p:cNvSpPr/>
          <p:nvPr/>
        </p:nvSpPr>
        <p:spPr>
          <a:xfrm>
            <a:off x="5491080" y="3790800"/>
            <a:ext cx="1406520" cy="378000"/>
          </a:xfrm>
          <a:custGeom>
            <a:avLst/>
            <a:gdLst>
              <a:gd name="textAreaLeft" fmla="*/ 0 w 1406520"/>
              <a:gd name="textAreaRight" fmla="*/ 1406880 w 14065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9" y="0"/>
                </a:lnTo>
                <a:lnTo>
                  <a:pt x="21600" y="10800"/>
                </a:lnTo>
                <a:lnTo>
                  <a:pt x="186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0cece"/>
              </a:gs>
              <a:gs pos="100000">
                <a:srgbClr val="afabab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3838"/>
                </a:solidFill>
                <a:latin typeface="Times New Roman"/>
                <a:ea typeface="Microsoft YaHei"/>
              </a:rPr>
              <a:t> </a:t>
            </a:r>
            <a:r>
              <a:rPr b="1" lang="ru-RU" sz="1400" spc="-1" strike="noStrike">
                <a:solidFill>
                  <a:srgbClr val="3b3838"/>
                </a:solidFill>
                <a:latin typeface="Times New Roman"/>
                <a:ea typeface="Microsoft YaHei"/>
              </a:rPr>
              <a:t>ВАРИАН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4"/>
          <p:cNvSpPr/>
          <p:nvPr/>
        </p:nvSpPr>
        <p:spPr>
          <a:xfrm>
            <a:off x="5491080" y="5365800"/>
            <a:ext cx="276084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7c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я,  Штаб, Рабочая группа или иной коллегиальный орг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ятиугольник 25"/>
          <p:cNvSpPr/>
          <p:nvPr/>
        </p:nvSpPr>
        <p:spPr>
          <a:xfrm>
            <a:off x="5491080" y="5130720"/>
            <a:ext cx="1406520" cy="378000"/>
          </a:xfrm>
          <a:custGeom>
            <a:avLst/>
            <a:gdLst>
              <a:gd name="textAreaLeft" fmla="*/ 0 w 1406520"/>
              <a:gd name="textAreaRight" fmla="*/ 1406880 w 140652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99" y="0"/>
                </a:lnTo>
                <a:lnTo>
                  <a:pt x="21600" y="10800"/>
                </a:lnTo>
                <a:lnTo>
                  <a:pt x="186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0cece"/>
              </a:gs>
              <a:gs pos="100000">
                <a:srgbClr val="afabab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b3838"/>
                </a:solidFill>
                <a:latin typeface="Times New Roman"/>
                <a:ea typeface="Microsoft YaHei"/>
              </a:rPr>
              <a:t> </a:t>
            </a:r>
            <a:r>
              <a:rPr b="1" lang="ru-RU" sz="1400" spc="-1" strike="noStrike">
                <a:solidFill>
                  <a:srgbClr val="3b3838"/>
                </a:solidFill>
                <a:latin typeface="Times New Roman"/>
                <a:ea typeface="Microsoft YaHei"/>
              </a:rPr>
              <a:t>ВАРИАН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нутый угол 26"/>
          <p:cNvSpPr/>
          <p:nvPr/>
        </p:nvSpPr>
        <p:spPr>
          <a:xfrm>
            <a:off x="1386000" y="2690640"/>
            <a:ext cx="2979720" cy="746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442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ограничений по предме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цене контра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ятиугольник 27"/>
          <p:cNvSpPr/>
          <p:nvPr/>
        </p:nvSpPr>
        <p:spPr>
          <a:xfrm>
            <a:off x="1339920" y="2495520"/>
            <a:ext cx="1620720" cy="3445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5" y="0"/>
                </a:lnTo>
                <a:lnTo>
                  <a:pt x="21600" y="10800"/>
                </a:lnTo>
                <a:lnTo>
                  <a:pt x="193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ВАРИАНТ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Загнутый угол 28"/>
          <p:cNvSpPr/>
          <p:nvPr/>
        </p:nvSpPr>
        <p:spPr>
          <a:xfrm>
            <a:off x="1386000" y="3774960"/>
            <a:ext cx="2979720" cy="6955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442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определенные группы товаров, работ,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ятиугольник 29"/>
          <p:cNvSpPr/>
          <p:nvPr/>
        </p:nvSpPr>
        <p:spPr>
          <a:xfrm>
            <a:off x="1339920" y="3556080"/>
            <a:ext cx="1620720" cy="3445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5" y="0"/>
                </a:lnTo>
                <a:lnTo>
                  <a:pt x="21600" y="10800"/>
                </a:lnTo>
                <a:lnTo>
                  <a:pt x="193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ВАРИАНТ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с двумя скругленными противолежащими углами 30"/>
          <p:cNvSpPr/>
          <p:nvPr/>
        </p:nvSpPr>
        <p:spPr>
          <a:xfrm>
            <a:off x="3597120" y="4465800"/>
            <a:ext cx="1614600" cy="776160"/>
          </a:xfrm>
          <a:prstGeom prst="pie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упки в рамках Инвестпрограмм и Нац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с двумя скругленными противолежащими углами 31"/>
          <p:cNvSpPr/>
          <p:nvPr/>
        </p:nvSpPr>
        <p:spPr>
          <a:xfrm>
            <a:off x="541440" y="4481640"/>
            <a:ext cx="1428480" cy="784080"/>
          </a:xfrm>
          <a:prstGeom prst="pie">
            <a:avLst/>
          </a:prstGeom>
          <a:gradFill rotWithShape="0">
            <a:gsLst>
              <a:gs pos="0">
                <a:srgbClr val="879ad1"/>
              </a:gs>
              <a:gs pos="100000">
                <a:srgbClr val="627eca">
                  <a:alpha val="90196"/>
                </a:srgbClr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ьютерное, периферийное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с двумя скругленными противолежащими углами 32"/>
          <p:cNvSpPr/>
          <p:nvPr/>
        </p:nvSpPr>
        <p:spPr>
          <a:xfrm>
            <a:off x="1969920" y="4479840"/>
            <a:ext cx="1627200" cy="763560"/>
          </a:xfrm>
          <a:prstGeom prst="pie">
            <a:avLst/>
          </a:prstGeom>
          <a:solidFill>
            <a:srgbClr val="4472c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арственные препараты и мед. изде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Загнутый угол 39"/>
          <p:cNvSpPr/>
          <p:nvPr/>
        </p:nvSpPr>
        <p:spPr>
          <a:xfrm>
            <a:off x="1386000" y="5584680"/>
            <a:ext cx="2979720" cy="6796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442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определ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ной контра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ятиугольник 40"/>
          <p:cNvSpPr/>
          <p:nvPr/>
        </p:nvSpPr>
        <p:spPr>
          <a:xfrm>
            <a:off x="1339920" y="5389560"/>
            <a:ext cx="1620720" cy="3445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05" y="0"/>
                </a:lnTo>
                <a:lnTo>
                  <a:pt x="21600" y="10800"/>
                </a:lnTo>
                <a:lnTo>
                  <a:pt x="193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ВАРИАНТ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41"/>
          <p:cNvSpPr/>
          <p:nvPr/>
        </p:nvSpPr>
        <p:spPr>
          <a:xfrm>
            <a:off x="1219320" y="6270480"/>
            <a:ext cx="1093680" cy="387360"/>
          </a:xfrm>
          <a:prstGeom prst="rect">
            <a:avLst/>
          </a:prstGeom>
          <a:solidFill>
            <a:srgbClr val="dae3f3"/>
          </a:solidFill>
          <a:ln w="2556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Symbol"/>
                <a:ea typeface="Symbol"/>
              </a:rPr>
              <a:t></a:t>
            </a: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1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43"/>
          <p:cNvSpPr/>
          <p:nvPr/>
        </p:nvSpPr>
        <p:spPr>
          <a:xfrm>
            <a:off x="2320920" y="6270480"/>
            <a:ext cx="1154160" cy="387360"/>
          </a:xfrm>
          <a:prstGeom prst="rect">
            <a:avLst/>
          </a:prstGeom>
          <a:solidFill>
            <a:srgbClr val="dae3f3"/>
          </a:solidFill>
          <a:ln w="2556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Symbol"/>
                <a:ea typeface="Symbol"/>
              </a:rPr>
              <a:t></a:t>
            </a: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10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44"/>
          <p:cNvSpPr/>
          <p:nvPr/>
        </p:nvSpPr>
        <p:spPr>
          <a:xfrm>
            <a:off x="3479760" y="6270480"/>
            <a:ext cx="1152720" cy="387360"/>
          </a:xfrm>
          <a:prstGeom prst="rect">
            <a:avLst/>
          </a:prstGeom>
          <a:solidFill>
            <a:srgbClr val="dae3f3"/>
          </a:solidFill>
          <a:ln w="2556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203864"/>
                </a:solidFill>
                <a:latin typeface="Symbol"/>
                <a:ea typeface="Symbol"/>
              </a:rPr>
              <a:t></a:t>
            </a:r>
            <a:r>
              <a:rPr b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50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Шестиугольник 5"/>
          <p:cNvSpPr/>
          <p:nvPr/>
        </p:nvSpPr>
        <p:spPr>
          <a:xfrm>
            <a:off x="2286000" y="754200"/>
            <a:ext cx="4618080" cy="595080"/>
          </a:xfrm>
          <a:prstGeom prst="hexagon">
            <a:avLst>
              <a:gd name="adj" fmla="val 25006"/>
              <a:gd name="vf" fmla="val 115470"/>
            </a:avLst>
          </a:prstGeom>
          <a:gradFill rotWithShape="0">
            <a:gsLst>
              <a:gs pos="0">
                <a:srgbClr val="7c91cd"/>
              </a:gs>
              <a:gs pos="100000">
                <a:srgbClr val="627eca"/>
              </a:gs>
            </a:gsLst>
            <a:lin ang="5400000"/>
          </a:gradFill>
          <a:ln w="4428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А СУБЪЕКТ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45"/>
          <p:cNvSpPr/>
          <p:nvPr/>
        </p:nvSpPr>
        <p:spPr>
          <a:xfrm flipH="1">
            <a:off x="742680" y="1741320"/>
            <a:ext cx="639720" cy="0"/>
          </a:xfrm>
          <a:prstGeom prst="line">
            <a:avLst/>
          </a:prstGeom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46"/>
          <p:cNvSpPr/>
          <p:nvPr/>
        </p:nvSpPr>
        <p:spPr>
          <a:xfrm flipH="1">
            <a:off x="742680" y="3063960"/>
            <a:ext cx="663480" cy="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49"/>
          <p:cNvSpPr/>
          <p:nvPr/>
        </p:nvSpPr>
        <p:spPr>
          <a:xfrm flipH="1">
            <a:off x="718920" y="4260960"/>
            <a:ext cx="663480" cy="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50"/>
          <p:cNvSpPr/>
          <p:nvPr/>
        </p:nvSpPr>
        <p:spPr>
          <a:xfrm flipH="1">
            <a:off x="718920" y="6035760"/>
            <a:ext cx="663480" cy="0"/>
          </a:xfrm>
          <a:prstGeom prst="line">
            <a:avLst/>
          </a:prstGeom>
          <a:ln w="34920">
            <a:solidFill>
              <a:srgbClr val="2f5597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59"/>
          <p:cNvSpPr/>
          <p:nvPr/>
        </p:nvSpPr>
        <p:spPr>
          <a:xfrm flipH="1">
            <a:off x="7981560" y="1722600"/>
            <a:ext cx="917640" cy="0"/>
          </a:xfrm>
          <a:prstGeom prst="line">
            <a:avLst/>
          </a:prstGeom>
          <a:ln w="2844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60"/>
          <p:cNvSpPr/>
          <p:nvPr/>
        </p:nvSpPr>
        <p:spPr>
          <a:xfrm flipV="1">
            <a:off x="8899560" y="1722600"/>
            <a:ext cx="0" cy="4133520"/>
          </a:xfrm>
          <a:prstGeom prst="line">
            <a:avLst/>
          </a:prstGeom>
          <a:ln w="2844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62"/>
          <p:cNvSpPr/>
          <p:nvPr/>
        </p:nvSpPr>
        <p:spPr>
          <a:xfrm>
            <a:off x="8251920" y="3220920"/>
            <a:ext cx="647640" cy="0"/>
          </a:xfrm>
          <a:prstGeom prst="line">
            <a:avLst/>
          </a:prstGeom>
          <a:ln w="34920">
            <a:solidFill>
              <a:srgbClr val="767171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69"/>
          <p:cNvSpPr/>
          <p:nvPr/>
        </p:nvSpPr>
        <p:spPr>
          <a:xfrm>
            <a:off x="8224920" y="4516560"/>
            <a:ext cx="647640" cy="0"/>
          </a:xfrm>
          <a:prstGeom prst="line">
            <a:avLst/>
          </a:prstGeom>
          <a:ln w="34920">
            <a:solidFill>
              <a:srgbClr val="767171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70"/>
          <p:cNvSpPr/>
          <p:nvPr/>
        </p:nvSpPr>
        <p:spPr>
          <a:xfrm>
            <a:off x="8224920" y="5861160"/>
            <a:ext cx="674640" cy="0"/>
          </a:xfrm>
          <a:prstGeom prst="line">
            <a:avLst/>
          </a:prstGeom>
          <a:ln w="34920">
            <a:solidFill>
              <a:srgbClr val="767171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Восьмиугольник 23"/>
          <p:cNvSpPr/>
          <p:nvPr/>
        </p:nvSpPr>
        <p:spPr>
          <a:xfrm>
            <a:off x="5815080" y="3836880"/>
            <a:ext cx="2489040" cy="4730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КОМИСС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12"/>
          <p:cNvSpPr/>
          <p:nvPr/>
        </p:nvSpPr>
        <p:spPr>
          <a:xfrm>
            <a:off x="824040" y="3927600"/>
            <a:ext cx="3638520" cy="1803240"/>
          </a:xfrm>
          <a:prstGeom prst="pie">
            <a:avLst/>
          </a:prstGeom>
          <a:solidFill>
            <a:srgbClr val="ffffff"/>
          </a:solidFill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20000"/>
                </a:solidFill>
                <a:latin typeface="Times New Roman"/>
                <a:ea typeface="Times New Roman"/>
              </a:rPr>
              <a:t>ПРИНИМАЕТ РЕШЕНИЕ О СОГЛАСОВАНИИ (ОТКАЗЕ В СОГЛАСОВАНИИ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го поставщи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конкретной закуп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может быть осуществлена заказчикам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динственного поставщ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гнутая вправо стрелка 10"/>
          <p:cNvSpPr/>
          <p:nvPr/>
        </p:nvSpPr>
        <p:spPr>
          <a:xfrm flipH="1">
            <a:off x="1978200" y="3295800"/>
            <a:ext cx="728640" cy="717480"/>
          </a:xfrm>
          <a:custGeom>
            <a:avLst/>
            <a:gdLst>
              <a:gd name="textAreaLeft" fmla="*/ 97560 w 728640"/>
              <a:gd name="textAreaRight" fmla="*/ 631080 w 728640"/>
              <a:gd name="textAreaTop" fmla="*/ 111960 h 717480"/>
              <a:gd name="textAreaBottom" fmla="*/ 5158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53595"/>
                <a:lnTo>
                  <a:pt x="5318" y="21392"/>
                </a:lnTo>
                <a:lnTo>
                  <a:pt x="0" y="16200"/>
                </a:lnTo>
                <a:lnTo>
                  <a:pt x="5318" y="10592"/>
                </a:lnTo>
                <a:lnTo>
                  <a:pt x="5318" y="13292"/>
                </a:lnTo>
                <a:arcTo wR="21600" hR="6750" stAng="3053595" swAng="-258760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354640" y="1908000"/>
            <a:ext cx="2830680" cy="112104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верждает состав и порядок работы комиссии по повышению устойчивости экономики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7"/>
          <p:cNvSpPr/>
          <p:nvPr/>
        </p:nvSpPr>
        <p:spPr>
          <a:xfrm>
            <a:off x="892080" y="1924200"/>
            <a:ext cx="2830680" cy="112212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авливает случа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упок у единственного поставщика для государственных и муниципальных нужд Воронежской обла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"/>
          <p:cNvSpPr/>
          <p:nvPr/>
        </p:nvSpPr>
        <p:spPr>
          <a:xfrm>
            <a:off x="8566200" y="152280"/>
            <a:ext cx="417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103320" y="47520"/>
            <a:ext cx="8483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Практика Воронежской области по минимизации действ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экономических санкций в сфере закуп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Вертикальный свиток 5"/>
          <p:cNvSpPr/>
          <p:nvPr/>
        </p:nvSpPr>
        <p:spPr>
          <a:xfrm>
            <a:off x="1209600" y="835200"/>
            <a:ext cx="2193840" cy="1104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новление правительства Воронежской области от 21.03.2022 №</a:t>
            </a: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Вертикальный свиток 6"/>
          <p:cNvSpPr/>
          <p:nvPr/>
        </p:nvSpPr>
        <p:spPr>
          <a:xfrm>
            <a:off x="5672160" y="811080"/>
            <a:ext cx="2193840" cy="11131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ановление правительства Воронежской области от 21.03.2022 №</a:t>
            </a:r>
            <a:r>
              <a:rPr b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15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Выгнутая вправо стрелка 11"/>
          <p:cNvSpPr/>
          <p:nvPr/>
        </p:nvSpPr>
        <p:spPr>
          <a:xfrm>
            <a:off x="6823080" y="3294000"/>
            <a:ext cx="728640" cy="717480"/>
          </a:xfrm>
          <a:custGeom>
            <a:avLst/>
            <a:gdLst>
              <a:gd name="textAreaLeft" fmla="*/ 97560 w 728640"/>
              <a:gd name="textAreaRight" fmla="*/ 631080 w 728640"/>
              <a:gd name="textAreaTop" fmla="*/ 111960 h 717480"/>
              <a:gd name="textAreaBottom" fmla="*/ 5158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53595"/>
                <a:lnTo>
                  <a:pt x="5318" y="21392"/>
                </a:lnTo>
                <a:lnTo>
                  <a:pt x="0" y="16200"/>
                </a:lnTo>
                <a:lnTo>
                  <a:pt x="5318" y="10592"/>
                </a:lnTo>
                <a:lnTo>
                  <a:pt x="5318" y="13292"/>
                </a:lnTo>
                <a:arcTo wR="21600" hR="6750" stAng="3053595" swAng="-258760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15"/>
          <p:cNvCxnSpPr/>
          <p:nvPr/>
        </p:nvCxnSpPr>
        <p:spPr>
          <a:xfrm>
            <a:off x="3722400" y="2377800"/>
            <a:ext cx="1632600" cy="1080"/>
          </a:xfrm>
          <a:prstGeom prst="straightConnector1">
            <a:avLst/>
          </a:prstGeom>
          <a:ln w="22320">
            <a:solidFill>
              <a:srgbClr val="2f5597"/>
            </a:solidFill>
            <a:miter/>
            <a:tailEnd len="med" type="triangle" w="med"/>
          </a:ln>
        </p:spPr>
      </p:cxnSp>
      <p:cxnSp>
        <p:nvCxnSpPr>
          <p:cNvPr id="293" name="Прямая со стрелкой 18"/>
          <p:cNvCxnSpPr/>
          <p:nvPr/>
        </p:nvCxnSpPr>
        <p:spPr>
          <a:xfrm flipH="1">
            <a:off x="3722040" y="2590560"/>
            <a:ext cx="1632600" cy="1080"/>
          </a:xfrm>
          <a:prstGeom prst="straightConnector1">
            <a:avLst/>
          </a:prstGeom>
          <a:ln w="22320">
            <a:solidFill>
              <a:srgbClr val="2f5597"/>
            </a:solidFill>
            <a:miter/>
            <a:tailEnd len="med" type="triangle" w="med"/>
          </a:ln>
        </p:spPr>
      </p:cxnSp>
      <p:pic>
        <p:nvPicPr>
          <p:cNvPr id="294" name="Picture 5" descr="C:\Users\mvstudenikina\Desktop\Картинки\совещание.jpg"/>
          <p:cNvPicPr/>
          <p:nvPr/>
        </p:nvPicPr>
        <p:blipFill>
          <a:blip r:embed="rId1"/>
          <a:stretch/>
        </p:blipFill>
        <p:spPr>
          <a:xfrm>
            <a:off x="4645080" y="4145040"/>
            <a:ext cx="877680" cy="712800"/>
          </a:xfrm>
          <a:prstGeom prst="rect">
            <a:avLst/>
          </a:prstGeom>
          <a:ln w="0">
            <a:noFill/>
          </a:ln>
        </p:spPr>
      </p:pic>
      <p:sp>
        <p:nvSpPr>
          <p:cNvPr id="295" name="Блок-схема: узел 20"/>
          <p:cNvSpPr/>
          <p:nvPr/>
        </p:nvSpPr>
        <p:spPr>
          <a:xfrm>
            <a:off x="3260880" y="870120"/>
            <a:ext cx="2527200" cy="1164960"/>
          </a:xfrm>
          <a:prstGeom prst="flowChartConnector">
            <a:avLst/>
          </a:prstGeom>
          <a:solidFill>
            <a:srgbClr val="fffff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негативным последствиям введения санкций в экономической 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Группа 29"/>
          <p:cNvGrpSpPr/>
          <p:nvPr/>
        </p:nvGrpSpPr>
        <p:grpSpPr>
          <a:xfrm>
            <a:off x="5889600" y="4343400"/>
            <a:ext cx="2373480" cy="762120"/>
            <a:chOff x="5889600" y="4343400"/>
            <a:chExt cx="2373480" cy="762120"/>
          </a:xfrm>
        </p:grpSpPr>
        <p:sp>
          <p:nvSpPr>
            <p:cNvPr id="297" name="Прямоугольник 19"/>
            <p:cNvSpPr/>
            <p:nvPr/>
          </p:nvSpPr>
          <p:spPr>
            <a:xfrm>
              <a:off x="5889600" y="4343400"/>
              <a:ext cx="2373480" cy="762120"/>
            </a:xfrm>
            <a:prstGeom prst="rect">
              <a:avLst/>
            </a:prstGeom>
            <a:gradFill rotWithShape="0">
              <a:gsLst>
                <a:gs pos="0">
                  <a:srgbClr val="71a6db"/>
                </a:gs>
                <a:gs pos="100000">
                  <a:srgbClr val="438ac9"/>
                </a:gs>
              </a:gsLst>
              <a:lin ang="5400000"/>
            </a:gradFill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ЕДСЕДАТЕЛЬ КОМИ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24"/>
            <p:cNvSpPr/>
            <p:nvPr/>
          </p:nvSpPr>
          <p:spPr>
            <a:xfrm>
              <a:off x="5943240" y="4578480"/>
              <a:ext cx="2268720" cy="479520"/>
            </a:xfrm>
            <a:prstGeom prst="rect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Губернат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оронеж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Группа 28"/>
          <p:cNvGrpSpPr/>
          <p:nvPr/>
        </p:nvGrpSpPr>
        <p:grpSpPr>
          <a:xfrm>
            <a:off x="5877000" y="5162400"/>
            <a:ext cx="2378160" cy="762120"/>
            <a:chOff x="5877000" y="5162400"/>
            <a:chExt cx="2378160" cy="762120"/>
          </a:xfrm>
        </p:grpSpPr>
        <p:sp>
          <p:nvSpPr>
            <p:cNvPr id="300" name="Прямоугольник 21"/>
            <p:cNvSpPr/>
            <p:nvPr/>
          </p:nvSpPr>
          <p:spPr>
            <a:xfrm>
              <a:off x="5877000" y="5162400"/>
              <a:ext cx="2378160" cy="762120"/>
            </a:xfrm>
            <a:prstGeom prst="rect">
              <a:avLst/>
            </a:prstGeom>
            <a:gradFill rotWithShape="0">
              <a:gsLst>
                <a:gs pos="0">
                  <a:srgbClr val="71a6db"/>
                </a:gs>
                <a:gs pos="100000">
                  <a:srgbClr val="438ac9"/>
                </a:gs>
              </a:gsLst>
              <a:lin ang="5400000"/>
            </a:gradFill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ЛЕНЫ КОМИ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22"/>
            <p:cNvSpPr/>
            <p:nvPr/>
          </p:nvSpPr>
          <p:spPr>
            <a:xfrm>
              <a:off x="5927760" y="5397480"/>
              <a:ext cx="2273400" cy="479520"/>
            </a:xfrm>
            <a:prstGeom prst="rect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ави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оронеж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Группа 27"/>
          <p:cNvGrpSpPr/>
          <p:nvPr/>
        </p:nvGrpSpPr>
        <p:grpSpPr>
          <a:xfrm>
            <a:off x="5870520" y="5969160"/>
            <a:ext cx="2378160" cy="761760"/>
            <a:chOff x="5870520" y="5969160"/>
            <a:chExt cx="2378160" cy="761760"/>
          </a:xfrm>
        </p:grpSpPr>
        <p:sp>
          <p:nvSpPr>
            <p:cNvPr id="303" name="Прямоугольник 25"/>
            <p:cNvSpPr/>
            <p:nvPr/>
          </p:nvSpPr>
          <p:spPr>
            <a:xfrm>
              <a:off x="5870520" y="5969160"/>
              <a:ext cx="2378160" cy="761760"/>
            </a:xfrm>
            <a:prstGeom prst="rect">
              <a:avLst/>
            </a:prstGeom>
            <a:gradFill rotWithShape="0">
              <a:gsLst>
                <a:gs pos="0">
                  <a:srgbClr val="71a6db"/>
                </a:gs>
                <a:gs pos="100000">
                  <a:srgbClr val="438ac9"/>
                </a:gs>
              </a:gsLst>
              <a:lin ang="5400000"/>
            </a:gradFill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ЕКРЕТАРЬ КОМИ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6"/>
            <p:cNvSpPr/>
            <p:nvPr/>
          </p:nvSpPr>
          <p:spPr>
            <a:xfrm>
              <a:off x="5921280" y="6203880"/>
              <a:ext cx="2273400" cy="479160"/>
            </a:xfrm>
            <a:prstGeom prst="rect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полномоченный орг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 сфере закупо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Загнутый угол 30"/>
          <p:cNvGrpSpPr/>
          <p:nvPr/>
        </p:nvGrpSpPr>
        <p:grpSpPr>
          <a:xfrm>
            <a:off x="669960" y="5877000"/>
            <a:ext cx="2017800" cy="925560"/>
            <a:chOff x="669960" y="5877000"/>
            <a:chExt cx="2017800" cy="925560"/>
          </a:xfrm>
        </p:grpSpPr>
        <p:pic>
          <p:nvPicPr>
            <p:cNvPr id="306" name="Загнутый угол 30" descr=""/>
            <p:cNvPicPr/>
            <p:nvPr/>
          </p:nvPicPr>
          <p:blipFill>
            <a:blip r:embed="rId2"/>
            <a:stretch/>
          </p:blipFill>
          <p:spPr>
            <a:xfrm>
              <a:off x="669960" y="5877000"/>
              <a:ext cx="20178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755640" y="6019920"/>
              <a:ext cx="18734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з огранич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предмет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а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Загнутый угол 31"/>
          <p:cNvSpPr/>
          <p:nvPr/>
        </p:nvSpPr>
        <p:spPr>
          <a:xfrm>
            <a:off x="3349800" y="6012000"/>
            <a:ext cx="1812600" cy="67608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млн и более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3" descr="G:\Картинки\цена.jpg"/>
          <p:cNvPicPr/>
          <p:nvPr/>
        </p:nvPicPr>
        <p:blipFill>
          <a:blip r:embed="rId3"/>
          <a:stretch/>
        </p:blipFill>
        <p:spPr>
          <a:xfrm>
            <a:off x="2755800" y="5999040"/>
            <a:ext cx="712800" cy="712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Users\mvstudenikina\Desktop\Картинки\Контракт.png"/>
          <p:cNvPicPr/>
          <p:nvPr/>
        </p:nvPicPr>
        <p:blipFill>
          <a:blip r:embed="rId4"/>
          <a:stretch/>
        </p:blipFill>
        <p:spPr>
          <a:xfrm>
            <a:off x="225360" y="6016680"/>
            <a:ext cx="768240" cy="68256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Coat_of_Arms_of_Voronezh_oblast_(2005).png"/>
          <p:cNvPicPr/>
          <p:nvPr/>
        </p:nvPicPr>
        <p:blipFill>
          <a:blip r:embed="rId5"/>
          <a:stretch/>
        </p:blipFill>
        <p:spPr>
          <a:xfrm>
            <a:off x="7540560" y="3127320"/>
            <a:ext cx="849240" cy="7095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35"/>
          <p:cNvCxnSpPr>
            <a:stCxn id="283" idx="9"/>
          </p:cNvCxnSpPr>
          <p:nvPr/>
        </p:nvCxnSpPr>
        <p:spPr>
          <a:xfrm flipH="1">
            <a:off x="1604880" y="5730480"/>
            <a:ext cx="1038600" cy="29772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13" name="Прямая со стрелкой 41"/>
          <p:cNvCxnSpPr>
            <a:stCxn id="283" idx="10"/>
          </p:cNvCxnSpPr>
          <p:nvPr/>
        </p:nvCxnSpPr>
        <p:spPr>
          <a:xfrm>
            <a:off x="2643120" y="5730840"/>
            <a:ext cx="1021680" cy="3038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14" name="Стрелка вниз 44"/>
          <p:cNvSpPr/>
          <p:nvPr/>
        </p:nvSpPr>
        <p:spPr>
          <a:xfrm rot="5400000">
            <a:off x="4721760" y="4675680"/>
            <a:ext cx="652680" cy="1044720"/>
          </a:xfrm>
          <a:prstGeom prst="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Левая круглая скобка 46"/>
          <p:cNvSpPr/>
          <p:nvPr/>
        </p:nvSpPr>
        <p:spPr>
          <a:xfrm>
            <a:off x="5630760" y="4030560"/>
            <a:ext cx="176400" cy="2614680"/>
          </a:xfrm>
          <a:custGeom>
            <a:avLst/>
            <a:gdLst>
              <a:gd name="textAreaLeft" fmla="*/ 51840 w 176400"/>
              <a:gd name="textAreaRight" fmla="*/ 176760 w 176400"/>
              <a:gd name="textAreaTop" fmla="*/ 7200 h 2614680"/>
              <a:gd name="textAreaBottom" fmla="*/ 2607480 h 26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1"/>
                  <a:pt x="0" y="121"/>
                </a:cubicBezTo>
                <a:lnTo>
                  <a:pt x="0" y="21479"/>
                </a:lnTo>
                <a:cubicBezTo>
                  <a:pt x="0" y="2154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Левая круглая скобка 47"/>
          <p:cNvSpPr/>
          <p:nvPr/>
        </p:nvSpPr>
        <p:spPr>
          <a:xfrm flipH="1">
            <a:off x="8297280" y="4046400"/>
            <a:ext cx="176040" cy="2613240"/>
          </a:xfrm>
          <a:custGeom>
            <a:avLst/>
            <a:gdLst>
              <a:gd name="textAreaLeft" fmla="*/ 51480 w 176040"/>
              <a:gd name="textAreaRight" fmla="*/ 176040 w 176040"/>
              <a:gd name="textAreaTop" fmla="*/ 7200 h 2613240"/>
              <a:gd name="textAreaBottom" fmla="*/ 2606040 h 261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1"/>
                  <a:pt x="0" y="121"/>
                </a:cubicBezTo>
                <a:lnTo>
                  <a:pt x="0" y="21479"/>
                </a:lnTo>
                <a:cubicBezTo>
                  <a:pt x="0" y="2154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Рисунок 48" descr="Рещение.png"/>
          <p:cNvPicPr/>
          <p:nvPr/>
        </p:nvPicPr>
        <p:blipFill>
          <a:blip r:embed="rId6"/>
          <a:stretch/>
        </p:blipFill>
        <p:spPr>
          <a:xfrm>
            <a:off x="1243080" y="3255840"/>
            <a:ext cx="579240" cy="584280"/>
          </a:xfrm>
          <a:prstGeom prst="rect">
            <a:avLst/>
          </a:prstGeom>
          <a:ln w="0">
            <a:noFill/>
          </a:ln>
        </p:spPr>
      </p:pic>
      <p:grpSp>
        <p:nvGrpSpPr>
          <p:cNvPr id="318" name="Группа 22"/>
          <p:cNvGrpSpPr/>
          <p:nvPr/>
        </p:nvGrpSpPr>
        <p:grpSpPr>
          <a:xfrm>
            <a:off x="2725560" y="3005280"/>
            <a:ext cx="4089600" cy="1043280"/>
            <a:chOff x="2725560" y="3005280"/>
            <a:chExt cx="4089600" cy="1043280"/>
          </a:xfrm>
        </p:grpSpPr>
        <p:sp>
          <p:nvSpPr>
            <p:cNvPr id="319" name="Блок-схема: магнитный диск 9"/>
            <p:cNvSpPr/>
            <p:nvPr/>
          </p:nvSpPr>
          <p:spPr>
            <a:xfrm>
              <a:off x="2725560" y="3005280"/>
              <a:ext cx="4089600" cy="768240"/>
            </a:xfrm>
            <a:prstGeom prst="flowChartMagneticDisk">
              <a:avLst/>
            </a:prstGeom>
            <a:gradFill rotWithShape="0">
              <a:gsLst>
                <a:gs pos="0">
                  <a:srgbClr val="afabab"/>
                </a:gs>
                <a:gs pos="100000">
                  <a:srgbClr val="e7e6e6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21"/>
            <p:cNvSpPr/>
            <p:nvPr/>
          </p:nvSpPr>
          <p:spPr>
            <a:xfrm>
              <a:off x="2766600" y="3022560"/>
              <a:ext cx="393624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КОМИССИЯ</a:t>
              </a:r>
              <a:r>
                <a:rPr b="1" lang="ru-RU" sz="16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по повышению устойчив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экономики Воронеж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42"/>
          <p:cNvSpPr/>
          <p:nvPr/>
        </p:nvSpPr>
        <p:spPr>
          <a:xfrm>
            <a:off x="329760" y="3641760"/>
            <a:ext cx="2026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дители государственных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униципальных) учреждени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Скругленный прямоугольник 234"/>
          <p:cNvSpPr/>
          <p:nvPr/>
        </p:nvSpPr>
        <p:spPr>
          <a:xfrm>
            <a:off x="2666880" y="4191120"/>
            <a:ext cx="6340680" cy="2179440"/>
          </a:xfrm>
          <a:prstGeom prst="roundRect">
            <a:avLst>
              <a:gd name="adj" fmla="val 16667"/>
            </a:avLst>
          </a:prstGeom>
          <a:solidFill>
            <a:srgbClr val="dae3f3"/>
          </a:solidFill>
          <a:ln w="22320">
            <a:solidFill>
              <a:srgbClr val="9dc3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80"/>
          <p:cNvSpPr/>
          <p:nvPr/>
        </p:nvSpPr>
        <p:spPr>
          <a:xfrm>
            <a:off x="2705040" y="1782720"/>
            <a:ext cx="6346800" cy="2255760"/>
          </a:xfrm>
          <a:prstGeom prst="rect">
            <a:avLst/>
          </a:prstGeom>
          <a:solidFill>
            <a:srgbClr val="e2f0d9"/>
          </a:solidFill>
          <a:ln w="22320">
            <a:solidFill>
              <a:srgbClr val="a9d18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7"/>
          <p:cNvSpPr/>
          <p:nvPr/>
        </p:nvSpPr>
        <p:spPr>
          <a:xfrm>
            <a:off x="5029200" y="2133720"/>
            <a:ext cx="149544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я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док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купк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динств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щ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Прямая со стрелкой 141"/>
          <p:cNvCxnSpPr/>
          <p:nvPr/>
        </p:nvCxnSpPr>
        <p:spPr>
          <a:xfrm>
            <a:off x="8580600" y="1203120"/>
            <a:ext cx="35784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</a:ln>
        </p:spPr>
      </p:cxnSp>
      <p:cxnSp>
        <p:nvCxnSpPr>
          <p:cNvPr id="326" name="Прямая со стрелкой 85"/>
          <p:cNvCxnSpPr>
            <a:stCxn id="327" idx="1"/>
          </p:cNvCxnSpPr>
          <p:nvPr/>
        </p:nvCxnSpPr>
        <p:spPr>
          <a:xfrm flipH="1">
            <a:off x="6515280" y="3020760"/>
            <a:ext cx="358920" cy="386280"/>
          </a:xfrm>
          <a:prstGeom prst="straightConnector1">
            <a:avLst/>
          </a:prstGeom>
          <a:ln w="28440">
            <a:solidFill>
              <a:srgbClr val="548235"/>
            </a:solidFill>
            <a:miter/>
          </a:ln>
        </p:spPr>
      </p:cxnSp>
      <p:sp>
        <p:nvSpPr>
          <p:cNvPr id="327" name="TextBox 81"/>
          <p:cNvSpPr/>
          <p:nvPr/>
        </p:nvSpPr>
        <p:spPr>
          <a:xfrm>
            <a:off x="6873840" y="2666880"/>
            <a:ext cx="2049480" cy="70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ая добросовестность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щ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80"/>
          <p:cNvSpPr/>
          <p:nvPr/>
        </p:nvSpPr>
        <p:spPr>
          <a:xfrm>
            <a:off x="6873840" y="1879560"/>
            <a:ext cx="204948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я закупк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единственного поставщ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словленное введением са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Прямая со стрелкой 30"/>
          <p:cNvCxnSpPr/>
          <p:nvPr/>
        </p:nvCxnSpPr>
        <p:spPr>
          <a:xfrm>
            <a:off x="6057720" y="1226880"/>
            <a:ext cx="1478520" cy="10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30" name="Прямоугольник с двумя скругленными противолежащими углами 34"/>
          <p:cNvSpPr/>
          <p:nvPr/>
        </p:nvSpPr>
        <p:spPr>
          <a:xfrm>
            <a:off x="312840" y="2079720"/>
            <a:ext cx="2079360" cy="1593720"/>
          </a:xfrm>
          <a:custGeom>
            <a:avLst/>
            <a:gdLst/>
            <a:ahLst/>
            <a:rect l="l" t="t" r="r" b="b"/>
            <a:pathLst>
              <a:path w="2079625" h="1593850">
                <a:moveTo>
                  <a:pt x="265647" y="0"/>
                </a:moveTo>
                <a:lnTo>
                  <a:pt x="2079625" y="0"/>
                </a:lnTo>
                <a:lnTo>
                  <a:pt x="2079625" y="0"/>
                </a:lnTo>
                <a:lnTo>
                  <a:pt x="2079625" y="1328203"/>
                </a:lnTo>
                <a:cubicBezTo>
                  <a:pt x="2079625" y="1474916"/>
                  <a:pt x="1960691" y="1593850"/>
                  <a:pt x="1813978" y="1593850"/>
                </a:cubicBezTo>
                <a:lnTo>
                  <a:pt x="0" y="1593850"/>
                </a:lnTo>
                <a:lnTo>
                  <a:pt x="0" y="1593850"/>
                </a:lnTo>
                <a:lnTo>
                  <a:pt x="0" y="265647"/>
                </a:lnTo>
                <a:cubicBezTo>
                  <a:pt x="0" y="118934"/>
                  <a:pt x="118934" y="0"/>
                  <a:pt x="265647" y="0"/>
                </a:cubicBezTo>
                <a:close/>
              </a:path>
            </a:pathLst>
          </a:custGeom>
          <a:solidFill>
            <a:srgbClr val="a9d18e">
              <a:alpha val="49000"/>
            </a:srgbClr>
          </a:solidFill>
          <a:ln w="22320">
            <a:solidFill>
              <a:srgbClr val="70ad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8566200" y="152280"/>
            <a:ext cx="417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111240" y="63360"/>
            <a:ext cx="8483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Механизм работы комиссии по повышению устойчив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экономики Воронежской области в условиях санк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с двумя скругленными противолежащими углами 5"/>
          <p:cNvSpPr/>
          <p:nvPr/>
        </p:nvSpPr>
        <p:spPr>
          <a:xfrm>
            <a:off x="291960" y="838080"/>
            <a:ext cx="1895760" cy="701640"/>
          </a:xfrm>
          <a:prstGeom prst="pie">
            <a:avLst/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ые  (муниципальные) заказч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с двумя скругленными противолежащими углами 6"/>
          <p:cNvSpPr/>
          <p:nvPr/>
        </p:nvSpPr>
        <p:spPr>
          <a:xfrm>
            <a:off x="398520" y="2163600"/>
            <a:ext cx="1917720" cy="702000"/>
          </a:xfrm>
          <a:prstGeom prst="pie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ительный орган государственной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с двумя скругленными противолежащими углами 7"/>
          <p:cNvSpPr/>
          <p:nvPr/>
        </p:nvSpPr>
        <p:spPr>
          <a:xfrm>
            <a:off x="390600" y="2917800"/>
            <a:ext cx="1917720" cy="679320"/>
          </a:xfrm>
          <a:prstGeom prst="pie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ная админист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с двумя скругленными противолежащими углами 8"/>
          <p:cNvSpPr/>
          <p:nvPr/>
        </p:nvSpPr>
        <p:spPr>
          <a:xfrm>
            <a:off x="360360" y="5235480"/>
            <a:ext cx="1963800" cy="928800"/>
          </a:xfrm>
          <a:prstGeom prst="pie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е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регулированию контрактной системы в сфере закуп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с двумя скругленными противолежащими углами 11"/>
          <p:cNvSpPr/>
          <p:nvPr/>
        </p:nvSpPr>
        <p:spPr>
          <a:xfrm>
            <a:off x="444600" y="928800"/>
            <a:ext cx="1895400" cy="687240"/>
          </a:xfrm>
          <a:prstGeom prst="pie">
            <a:avLst/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ые  (муниципальные) заказч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с двумя скругленными противолежащими углами 12"/>
          <p:cNvSpPr/>
          <p:nvPr/>
        </p:nvSpPr>
        <p:spPr>
          <a:xfrm>
            <a:off x="596880" y="1020600"/>
            <a:ext cx="1895400" cy="685800"/>
          </a:xfrm>
          <a:prstGeom prst="pie">
            <a:avLst/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енные  (муниципальные) заказч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Прямая со стрелкой 16"/>
          <p:cNvCxnSpPr/>
          <p:nvPr/>
        </p:nvCxnSpPr>
        <p:spPr>
          <a:xfrm flipV="1">
            <a:off x="2506680" y="1253520"/>
            <a:ext cx="1783440" cy="39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40" name="Шестиугольник 15"/>
          <p:cNvSpPr/>
          <p:nvPr/>
        </p:nvSpPr>
        <p:spPr>
          <a:xfrm>
            <a:off x="2751120" y="1130400"/>
            <a:ext cx="1189080" cy="24912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ffffff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Шестиугольник 31"/>
          <p:cNvSpPr/>
          <p:nvPr/>
        </p:nvSpPr>
        <p:spPr>
          <a:xfrm>
            <a:off x="7521480" y="898560"/>
            <a:ext cx="1225800" cy="64764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документы для подачи зая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авая фигурная скобка 35"/>
          <p:cNvSpPr/>
          <p:nvPr/>
        </p:nvSpPr>
        <p:spPr>
          <a:xfrm rot="5400000">
            <a:off x="1195560" y="2926440"/>
            <a:ext cx="293760" cy="2098440"/>
          </a:xfrm>
          <a:custGeom>
            <a:avLst/>
            <a:gdLst>
              <a:gd name="textAreaLeft" fmla="*/ 0 w 293760"/>
              <a:gd name="textAreaRight" fmla="*/ 106200 w 293760"/>
              <a:gd name="textAreaTop" fmla="*/ 64440 h 2098440"/>
              <a:gd name="textAreaBottom" fmla="*/ 2034000 h 209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0"/>
                  <a:pt x="10800" y="2120"/>
                </a:cubicBezTo>
                <a:lnTo>
                  <a:pt x="10800" y="8526"/>
                </a:lnTo>
                <a:cubicBezTo>
                  <a:pt x="10800" y="9586"/>
                  <a:pt x="16200" y="10646"/>
                  <a:pt x="21600" y="10646"/>
                </a:cubicBezTo>
                <a:cubicBezTo>
                  <a:pt x="16200" y="10646"/>
                  <a:pt x="10800" y="11706"/>
                  <a:pt x="10800" y="12766"/>
                </a:cubicBezTo>
                <a:lnTo>
                  <a:pt x="10800" y="19480"/>
                </a:lnTo>
                <a:cubicBezTo>
                  <a:pt x="10800" y="2054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4"/>
          <p:cNvSpPr/>
          <p:nvPr/>
        </p:nvSpPr>
        <p:spPr>
          <a:xfrm>
            <a:off x="2797200" y="1895400"/>
            <a:ext cx="1935000" cy="406440"/>
          </a:xfrm>
          <a:prstGeom prst="rect">
            <a:avLst/>
          </a:prstGeom>
          <a:solidFill>
            <a:srgbClr val="ffffff"/>
          </a:solidFill>
          <a:ln w="2232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единственном поставщ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5"/>
          <p:cNvSpPr/>
          <p:nvPr/>
        </p:nvSpPr>
        <p:spPr>
          <a:xfrm>
            <a:off x="2789280" y="2428920"/>
            <a:ext cx="1942920" cy="390600"/>
          </a:xfrm>
          <a:prstGeom prst="rect">
            <a:avLst/>
          </a:prstGeom>
          <a:solidFill>
            <a:srgbClr val="ffffff"/>
          </a:solidFill>
          <a:ln w="2232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контракта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е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6"/>
          <p:cNvSpPr/>
          <p:nvPr/>
        </p:nvSpPr>
        <p:spPr>
          <a:xfrm>
            <a:off x="2797200" y="2938320"/>
            <a:ext cx="1949400" cy="414360"/>
          </a:xfrm>
          <a:prstGeom prst="rect">
            <a:avLst/>
          </a:prstGeom>
          <a:solidFill>
            <a:srgbClr val="ffffff"/>
          </a:solidFill>
          <a:ln w="2232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цены контра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8"/>
          <p:cNvSpPr/>
          <p:nvPr/>
        </p:nvSpPr>
        <p:spPr>
          <a:xfrm>
            <a:off x="2789280" y="3467160"/>
            <a:ext cx="1957320" cy="396720"/>
          </a:xfrm>
          <a:prstGeom prst="rect">
            <a:avLst/>
          </a:prstGeom>
          <a:solidFill>
            <a:srgbClr val="ffffff"/>
          </a:solidFill>
          <a:ln w="2232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аванса и обеспечения исполнения контра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 стрелкой 69"/>
          <p:cNvCxnSpPr/>
          <p:nvPr/>
        </p:nvCxnSpPr>
        <p:spPr>
          <a:xfrm>
            <a:off x="4739760" y="1889280"/>
            <a:ext cx="305640" cy="481680"/>
          </a:xfrm>
          <a:prstGeom prst="straightConnector1">
            <a:avLst/>
          </a:prstGeom>
          <a:ln w="19080">
            <a:solidFill>
              <a:srgbClr val="ed7d31"/>
            </a:solidFill>
            <a:miter/>
          </a:ln>
        </p:spPr>
      </p:cxnSp>
      <p:sp>
        <p:nvSpPr>
          <p:cNvPr id="348" name="TextBox 82"/>
          <p:cNvSpPr/>
          <p:nvPr/>
        </p:nvSpPr>
        <p:spPr>
          <a:xfrm>
            <a:off x="6865920" y="3451320"/>
            <a:ext cx="2049480" cy="442800"/>
          </a:xfrm>
          <a:prstGeom prst="rect">
            <a:avLst/>
          </a:prstGeom>
          <a:solidFill>
            <a:srgbClr val="ffffff"/>
          </a:solidFill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ных лимит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юджет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Прямая со стрелкой 86"/>
          <p:cNvCxnSpPr/>
          <p:nvPr/>
        </p:nvCxnSpPr>
        <p:spPr>
          <a:xfrm flipH="1">
            <a:off x="6522840" y="3467160"/>
            <a:ext cx="335520" cy="365760"/>
          </a:xfrm>
          <a:prstGeom prst="straightConnector1">
            <a:avLst/>
          </a:prstGeom>
          <a:ln w="28440">
            <a:solidFill>
              <a:srgbClr val="548235"/>
            </a:solidFill>
            <a:miter/>
          </a:ln>
        </p:spPr>
      </p:cxnSp>
      <p:cxnSp>
        <p:nvCxnSpPr>
          <p:cNvPr id="350" name="Прямая со стрелкой 92"/>
          <p:cNvCxnSpPr/>
          <p:nvPr/>
        </p:nvCxnSpPr>
        <p:spPr>
          <a:xfrm>
            <a:off x="4723920" y="2438280"/>
            <a:ext cx="305640" cy="480240"/>
          </a:xfrm>
          <a:prstGeom prst="straightConnector1">
            <a:avLst/>
          </a:prstGeom>
          <a:ln w="19080">
            <a:solidFill>
              <a:srgbClr val="ed7d31"/>
            </a:solidFill>
            <a:miter/>
          </a:ln>
        </p:spPr>
      </p:cxnSp>
      <p:cxnSp>
        <p:nvCxnSpPr>
          <p:cNvPr id="351" name="Прямая со стрелкой 93"/>
          <p:cNvCxnSpPr/>
          <p:nvPr/>
        </p:nvCxnSpPr>
        <p:spPr>
          <a:xfrm>
            <a:off x="4762080" y="2955960"/>
            <a:ext cx="305640" cy="481680"/>
          </a:xfrm>
          <a:prstGeom prst="straightConnector1">
            <a:avLst/>
          </a:prstGeom>
          <a:ln w="19080">
            <a:solidFill>
              <a:srgbClr val="ed7d31"/>
            </a:solidFill>
            <a:miter/>
          </a:ln>
        </p:spPr>
      </p:cxnSp>
      <p:cxnSp>
        <p:nvCxnSpPr>
          <p:cNvPr id="352" name="Прямая со стрелкой 94"/>
          <p:cNvCxnSpPr/>
          <p:nvPr/>
        </p:nvCxnSpPr>
        <p:spPr>
          <a:xfrm>
            <a:off x="4754160" y="3467160"/>
            <a:ext cx="275400" cy="389520"/>
          </a:xfrm>
          <a:prstGeom prst="straightConnector1">
            <a:avLst/>
          </a:prstGeom>
          <a:ln w="19080">
            <a:solidFill>
              <a:srgbClr val="ed7d31"/>
            </a:solidFill>
            <a:miter/>
          </a:ln>
        </p:spPr>
      </p:cxnSp>
      <p:sp>
        <p:nvSpPr>
          <p:cNvPr id="353" name="Блок-схема: альтернативный процесс 103"/>
          <p:cNvSpPr/>
          <p:nvPr/>
        </p:nvSpPr>
        <p:spPr>
          <a:xfrm>
            <a:off x="168120" y="739800"/>
            <a:ext cx="390600" cy="342720"/>
          </a:xfrm>
          <a:prstGeom prst="flowChartAlternateProcess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Группа 115"/>
          <p:cNvGrpSpPr/>
          <p:nvPr/>
        </p:nvGrpSpPr>
        <p:grpSpPr>
          <a:xfrm>
            <a:off x="4297320" y="847800"/>
            <a:ext cx="2827440" cy="844560"/>
            <a:chOff x="4297320" y="847800"/>
            <a:chExt cx="2827440" cy="844560"/>
          </a:xfrm>
        </p:grpSpPr>
        <p:sp>
          <p:nvSpPr>
            <p:cNvPr id="355" name="Блок-схема: узел 10"/>
            <p:cNvSpPr/>
            <p:nvPr/>
          </p:nvSpPr>
          <p:spPr>
            <a:xfrm>
              <a:off x="4297320" y="847800"/>
              <a:ext cx="2827440" cy="844560"/>
            </a:xfrm>
            <a:prstGeom prst="flowChartConnector">
              <a:avLst/>
            </a:prstGeom>
            <a:gradFill rotWithShape="0">
              <a:gsLst>
                <a:gs pos="0">
                  <a:srgbClr val="f7bda4"/>
                </a:gs>
                <a:gs pos="100000">
                  <a:srgbClr val="f8a581"/>
                </a:gs>
              </a:gsLst>
              <a:lin ang="5400000"/>
            </a:gra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14"/>
            <p:cNvSpPr/>
            <p:nvPr/>
          </p:nvSpPr>
          <p:spPr>
            <a:xfrm>
              <a:off x="4419360" y="869760"/>
              <a:ext cx="2644920" cy="7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требность в закуп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варов, работ, услуг у единственного  поставщ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7" name="Прямая со стрелкой 139"/>
          <p:cNvCxnSpPr/>
          <p:nvPr/>
        </p:nvCxnSpPr>
        <p:spPr>
          <a:xfrm flipH="1">
            <a:off x="8944920" y="1196640"/>
            <a:ext cx="5400" cy="6022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58" name="Стрелка вниз 167"/>
          <p:cNvSpPr/>
          <p:nvPr/>
        </p:nvSpPr>
        <p:spPr>
          <a:xfrm>
            <a:off x="1120680" y="1730520"/>
            <a:ext cx="630360" cy="326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Группа 186"/>
          <p:cNvGrpSpPr/>
          <p:nvPr/>
        </p:nvGrpSpPr>
        <p:grpSpPr>
          <a:xfrm>
            <a:off x="4978440" y="1861920"/>
            <a:ext cx="1990800" cy="2070360"/>
            <a:chOff x="4978440" y="1861920"/>
            <a:chExt cx="1990800" cy="2070360"/>
          </a:xfrm>
        </p:grpSpPr>
        <p:pic>
          <p:nvPicPr>
            <p:cNvPr id="360" name="Рисунок 56" descr=""/>
            <p:cNvPicPr/>
            <p:nvPr/>
          </p:nvPicPr>
          <p:blipFill>
            <a:blip r:embed="rId1"/>
            <a:stretch/>
          </p:blipFill>
          <p:spPr>
            <a:xfrm>
              <a:off x="4978440" y="2072520"/>
              <a:ext cx="1990800" cy="185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Равнобедренный треугольник 184"/>
            <p:cNvSpPr/>
            <p:nvPr/>
          </p:nvSpPr>
          <p:spPr>
            <a:xfrm rot="2625600">
              <a:off x="6205320" y="2014200"/>
              <a:ext cx="558000" cy="290520"/>
            </a:xfrm>
            <a:prstGeom prst="triangle">
              <a:avLst>
                <a:gd name="adj" fmla="val 50000"/>
              </a:avLst>
            </a:prstGeom>
            <a:solidFill>
              <a:srgbClr val="e2f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2" name="Прямая со стрелкой 83"/>
          <p:cNvCxnSpPr/>
          <p:nvPr/>
        </p:nvCxnSpPr>
        <p:spPr>
          <a:xfrm flipH="1">
            <a:off x="6484680" y="1874880"/>
            <a:ext cx="373680" cy="526320"/>
          </a:xfrm>
          <a:prstGeom prst="straightConnector1">
            <a:avLst/>
          </a:prstGeom>
          <a:ln w="28440">
            <a:solidFill>
              <a:srgbClr val="548235"/>
            </a:solidFill>
            <a:miter/>
          </a:ln>
        </p:spPr>
      </p:cxnSp>
      <p:sp>
        <p:nvSpPr>
          <p:cNvPr id="363" name="Стрелка вниз 192"/>
          <p:cNvSpPr/>
          <p:nvPr/>
        </p:nvSpPr>
        <p:spPr>
          <a:xfrm>
            <a:off x="1052640" y="4664160"/>
            <a:ext cx="639720" cy="311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Шестиугольник 204"/>
          <p:cNvSpPr/>
          <p:nvPr/>
        </p:nvSpPr>
        <p:spPr>
          <a:xfrm>
            <a:off x="312840" y="4305240"/>
            <a:ext cx="2141280" cy="32076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ffff"/>
          </a:solidFill>
          <a:ln w="2232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209"/>
          <p:cNvSpPr/>
          <p:nvPr/>
        </p:nvSpPr>
        <p:spPr>
          <a:xfrm>
            <a:off x="2963880" y="4327560"/>
            <a:ext cx="47322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140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ирует и проверяет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явление и документы на осуществление закупки у единственного поставщ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C:\Users\mvstudenikina\Desktop\Иконки для презентации\Галочка.png"/>
          <p:cNvPicPr/>
          <p:nvPr/>
        </p:nvPicPr>
        <p:blipFill>
          <a:blip r:embed="rId2"/>
          <a:stretch/>
        </p:blipFill>
        <p:spPr>
          <a:xfrm>
            <a:off x="2816280" y="420696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367" name="Скругленный прямоугольник 216"/>
          <p:cNvSpPr/>
          <p:nvPr/>
        </p:nvSpPr>
        <p:spPr>
          <a:xfrm>
            <a:off x="2979720" y="5699160"/>
            <a:ext cx="47322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140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подготовку заседаний Комиссии,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м числе подготовку материалов и назначение даты засе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Блок-схема: альтернативный процесс 222"/>
          <p:cNvSpPr/>
          <p:nvPr/>
        </p:nvSpPr>
        <p:spPr>
          <a:xfrm>
            <a:off x="174600" y="1981080"/>
            <a:ext cx="399960" cy="343080"/>
          </a:xfrm>
          <a:prstGeom prst="flowChartAlternateProcess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Блок-схема: альтернативный процесс 223"/>
          <p:cNvSpPr/>
          <p:nvPr/>
        </p:nvSpPr>
        <p:spPr>
          <a:xfrm>
            <a:off x="144360" y="5181480"/>
            <a:ext cx="381240" cy="343080"/>
          </a:xfrm>
          <a:prstGeom prst="flowChartAlternateProcess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mvstudenikina\Desktop\Иконки для презентации\Галочка.png"/>
          <p:cNvPicPr/>
          <p:nvPr/>
        </p:nvPicPr>
        <p:blipFill>
          <a:blip r:embed="rId3"/>
          <a:stretch/>
        </p:blipFill>
        <p:spPr>
          <a:xfrm>
            <a:off x="2835360" y="5572080"/>
            <a:ext cx="384120" cy="384120"/>
          </a:xfrm>
          <a:prstGeom prst="rect">
            <a:avLst/>
          </a:prstGeom>
          <a:ln w="0">
            <a:noFill/>
          </a:ln>
        </p:spPr>
      </p:pic>
      <p:grpSp>
        <p:nvGrpSpPr>
          <p:cNvPr id="371" name="Группа 247"/>
          <p:cNvGrpSpPr/>
          <p:nvPr/>
        </p:nvGrpSpPr>
        <p:grpSpPr>
          <a:xfrm>
            <a:off x="2825640" y="4884840"/>
            <a:ext cx="6019920" cy="723960"/>
            <a:chOff x="2825640" y="4884840"/>
            <a:chExt cx="6019920" cy="723960"/>
          </a:xfrm>
        </p:grpSpPr>
        <p:sp>
          <p:nvSpPr>
            <p:cNvPr id="372" name="Скругленный прямоугольник 211"/>
            <p:cNvSpPr/>
            <p:nvPr/>
          </p:nvSpPr>
          <p:spPr>
            <a:xfrm>
              <a:off x="2953080" y="5006880"/>
              <a:ext cx="3614760" cy="503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414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Осуществляет возврат доку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на доработку заявител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Шестиугольник 213"/>
            <p:cNvSpPr/>
            <p:nvPr/>
          </p:nvSpPr>
          <p:spPr>
            <a:xfrm>
              <a:off x="6963480" y="5274720"/>
              <a:ext cx="1875600" cy="334080"/>
            </a:xfrm>
            <a:prstGeom prst="hexagon">
              <a:avLst>
                <a:gd name="adj" fmla="val 25056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несоответствии требования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Шестиугольник 214"/>
            <p:cNvSpPr/>
            <p:nvPr/>
          </p:nvSpPr>
          <p:spPr>
            <a:xfrm>
              <a:off x="6936480" y="4908600"/>
              <a:ext cx="1909080" cy="320040"/>
            </a:xfrm>
            <a:prstGeom prst="hexagon">
              <a:avLst>
                <a:gd name="adj" fmla="val 25048"/>
                <a:gd name="vf" fmla="val 115470"/>
              </a:avLst>
            </a:prstGeom>
            <a:solidFill>
              <a:srgbClr val="ffffff"/>
            </a:solidFill>
            <a:ln w="2232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непредставление всех документо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2" descr="C:\Users\mvstudenikina\Desktop\Иконки для презентации\Галочка.png"/>
            <p:cNvPicPr/>
            <p:nvPr/>
          </p:nvPicPr>
          <p:blipFill>
            <a:blip r:embed="rId4"/>
            <a:stretch/>
          </p:blipFill>
          <p:spPr>
            <a:xfrm>
              <a:off x="2825640" y="4884840"/>
              <a:ext cx="378000" cy="383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76" name="Прямая со стрелкой 228"/>
            <p:cNvCxnSpPr/>
            <p:nvPr/>
          </p:nvCxnSpPr>
          <p:spPr>
            <a:xfrm flipH="1">
              <a:off x="6589440" y="5082840"/>
              <a:ext cx="343800" cy="160200"/>
            </a:xfrm>
            <a:prstGeom prst="straightConnector1">
              <a:avLst/>
            </a:prstGeom>
            <a:ln w="19080">
              <a:solidFill>
                <a:srgbClr val="2f5597"/>
              </a:solidFill>
              <a:miter/>
            </a:ln>
          </p:spPr>
        </p:cxnSp>
        <p:cxnSp>
          <p:nvCxnSpPr>
            <p:cNvPr id="377" name="Прямая со стрелкой 231"/>
            <p:cNvCxnSpPr>
              <a:endCxn id="373" idx="2"/>
            </p:cNvCxnSpPr>
            <p:nvPr/>
          </p:nvCxnSpPr>
          <p:spPr>
            <a:xfrm>
              <a:off x="6568200" y="5258880"/>
              <a:ext cx="396000" cy="182520"/>
            </a:xfrm>
            <a:prstGeom prst="straightConnector1">
              <a:avLst/>
            </a:prstGeom>
            <a:ln w="19080">
              <a:solidFill>
                <a:srgbClr val="2f5597"/>
              </a:solidFill>
              <a:miter/>
            </a:ln>
          </p:spPr>
        </p:cxnSp>
      </p:grpSp>
      <p:sp>
        <p:nvSpPr>
          <p:cNvPr id="378" name="TextBox 36"/>
          <p:cNvSpPr/>
          <p:nvPr/>
        </p:nvSpPr>
        <p:spPr>
          <a:xfrm>
            <a:off x="757080" y="4092480"/>
            <a:ext cx="1233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548235"/>
                </a:solidFill>
                <a:latin typeface="Times New Roman"/>
                <a:ea typeface="Times New Roman"/>
              </a:rPr>
              <a:t>ЗАЯВ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Блок-схема: извлечение 244"/>
          <p:cNvSpPr/>
          <p:nvPr/>
        </p:nvSpPr>
        <p:spPr>
          <a:xfrm rot="16200000">
            <a:off x="1830960" y="2764080"/>
            <a:ext cx="1374840" cy="334800"/>
          </a:xfrm>
          <a:prstGeom prst="flowChartExtra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45"/>
          <p:cNvSpPr/>
          <p:nvPr/>
        </p:nvSpPr>
        <p:spPr>
          <a:xfrm>
            <a:off x="324000" y="4983120"/>
            <a:ext cx="2320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СЕКРЕТАРЬ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Блок-схема: извлечение 248"/>
          <p:cNvSpPr/>
          <p:nvPr/>
        </p:nvSpPr>
        <p:spPr>
          <a:xfrm rot="5400000">
            <a:off x="1984680" y="5520240"/>
            <a:ext cx="998640" cy="320760"/>
          </a:xfrm>
          <a:prstGeom prst="flowChartExtra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авая фигурная скобка 267"/>
          <p:cNvSpPr/>
          <p:nvPr/>
        </p:nvSpPr>
        <p:spPr>
          <a:xfrm rot="5400000">
            <a:off x="4548960" y="2080080"/>
            <a:ext cx="293760" cy="8499600"/>
          </a:xfrm>
          <a:custGeom>
            <a:avLst/>
            <a:gdLst>
              <a:gd name="textAreaLeft" fmla="*/ 0 w 293760"/>
              <a:gd name="textAreaRight" fmla="*/ 106200 w 293760"/>
              <a:gd name="textAreaTop" fmla="*/ 64440 h 8499600"/>
              <a:gd name="textAreaBottom" fmla="*/ 8435160 h 849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"/>
                  <a:pt x="10800" y="524"/>
                </a:cubicBezTo>
                <a:lnTo>
                  <a:pt x="10800" y="10122"/>
                </a:lnTo>
                <a:cubicBezTo>
                  <a:pt x="10800" y="10384"/>
                  <a:pt x="16200" y="10646"/>
                  <a:pt x="21600" y="10646"/>
                </a:cubicBezTo>
                <a:cubicBezTo>
                  <a:pt x="16200" y="10646"/>
                  <a:pt x="10800" y="10908"/>
                  <a:pt x="10800" y="11170"/>
                </a:cubicBezTo>
                <a:lnTo>
                  <a:pt x="10800" y="21076"/>
                </a:lnTo>
                <a:cubicBezTo>
                  <a:pt x="10800" y="2133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68"/>
          <p:cNvSpPr/>
          <p:nvPr/>
        </p:nvSpPr>
        <p:spPr>
          <a:xfrm>
            <a:off x="206280" y="6443640"/>
            <a:ext cx="89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Комиссии принимается в срок </a:t>
            </a:r>
            <a:r>
              <a:rPr b="1" i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зднее 5 рабочих дней </a:t>
            </a:r>
            <a:r>
              <a:rPr b="0" i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 дня поступления документов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4" name="Прямая со стрелкой 135"/>
          <p:cNvCxnSpPr/>
          <p:nvPr/>
        </p:nvCxnSpPr>
        <p:spPr>
          <a:xfrm flipH="1">
            <a:off x="7894080" y="2636640"/>
            <a:ext cx="967320" cy="1080"/>
          </a:xfrm>
          <a:prstGeom prst="straightConnector1">
            <a:avLst/>
          </a:prstGeom>
          <a:ln w="22320">
            <a:solidFill>
              <a:srgbClr val="2f5597"/>
            </a:solidFill>
            <a:miter/>
          </a:ln>
        </p:spPr>
      </p:cxnSp>
      <p:sp>
        <p:nvSpPr>
          <p:cNvPr id="385" name="Левая круглая скобка 127"/>
          <p:cNvSpPr/>
          <p:nvPr/>
        </p:nvSpPr>
        <p:spPr>
          <a:xfrm>
            <a:off x="617400" y="4495680"/>
            <a:ext cx="289080" cy="1638360"/>
          </a:xfrm>
          <a:custGeom>
            <a:avLst/>
            <a:gdLst>
              <a:gd name="textAreaLeft" fmla="*/ 84960 w 289080"/>
              <a:gd name="textAreaRight" fmla="*/ 289080 w 289080"/>
              <a:gd name="textAreaTop" fmla="*/ 11880 h 1638360"/>
              <a:gd name="textAreaBottom" fmla="*/ 162648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9"/>
                  <a:pt x="0" y="317"/>
                </a:cubicBezTo>
                <a:lnTo>
                  <a:pt x="0" y="21283"/>
                </a:lnTo>
                <a:cubicBezTo>
                  <a:pt x="0" y="2144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Группа 126"/>
          <p:cNvGrpSpPr/>
          <p:nvPr/>
        </p:nvGrpSpPr>
        <p:grpSpPr>
          <a:xfrm>
            <a:off x="3463920" y="4259160"/>
            <a:ext cx="595440" cy="533520"/>
            <a:chOff x="3463920" y="4259160"/>
            <a:chExt cx="595440" cy="533520"/>
          </a:xfrm>
        </p:grpSpPr>
        <p:sp>
          <p:nvSpPr>
            <p:cNvPr id="387" name="TextBox 125"/>
            <p:cNvSpPr/>
            <p:nvPr/>
          </p:nvSpPr>
          <p:spPr>
            <a:xfrm>
              <a:off x="3591360" y="4346280"/>
              <a:ext cx="327960" cy="35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Рисунок 106" descr="плюс минус.jpg"/>
            <p:cNvPicPr/>
            <p:nvPr/>
          </p:nvPicPr>
          <p:blipFill>
            <a:blip r:embed="rId1"/>
            <a:stretch/>
          </p:blipFill>
          <p:spPr>
            <a:xfrm>
              <a:off x="3463920" y="4259160"/>
              <a:ext cx="59544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Левая круглая скобка 122"/>
          <p:cNvSpPr/>
          <p:nvPr/>
        </p:nvSpPr>
        <p:spPr>
          <a:xfrm flipH="1">
            <a:off x="8403480" y="4503600"/>
            <a:ext cx="290520" cy="1638360"/>
          </a:xfrm>
          <a:custGeom>
            <a:avLst/>
            <a:gdLst>
              <a:gd name="textAreaLeft" fmla="*/ 85320 w 290520"/>
              <a:gd name="textAreaRight" fmla="*/ 290880 w 290520"/>
              <a:gd name="textAreaTop" fmla="*/ 11880 h 1638360"/>
              <a:gd name="textAreaBottom" fmla="*/ 162648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0"/>
                  <a:pt x="0" y="319"/>
                </a:cubicBezTo>
                <a:lnTo>
                  <a:pt x="0" y="21281"/>
                </a:lnTo>
                <a:cubicBezTo>
                  <a:pt x="0" y="21441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96" descr="комиссия2.jpg"/>
          <p:cNvPicPr/>
          <p:nvPr/>
        </p:nvPicPr>
        <p:blipFill>
          <a:blip r:embed="rId2"/>
          <a:stretch/>
        </p:blipFill>
        <p:spPr>
          <a:xfrm>
            <a:off x="4143240" y="3103560"/>
            <a:ext cx="835200" cy="75564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70"/>
          <p:cNvSpPr/>
          <p:nvPr/>
        </p:nvSpPr>
        <p:spPr>
          <a:xfrm>
            <a:off x="2719440" y="1517760"/>
            <a:ext cx="3841560" cy="409320"/>
          </a:xfrm>
          <a:prstGeom prst="rect">
            <a:avLst/>
          </a:prstGeom>
          <a:gradFill rotWithShape="0">
            <a:gsLst>
              <a:gs pos="0">
                <a:srgbClr val="2787a0">
                  <a:alpha val="34117"/>
                </a:srgbClr>
              </a:gs>
              <a:gs pos="100000">
                <a:srgbClr val="34b3d6">
                  <a:alpha val="62352"/>
                </a:srgbClr>
              </a:gs>
            </a:gsLst>
            <a:lin ang="16200000"/>
          </a:gradFill>
          <a:ln w="4140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0" i="1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Times New Roman"/>
              </a:rPr>
              <a:t>Правомочно</a:t>
            </a: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в случае личного присут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 u="sng">
                <a:solidFill>
                  <a:srgbClr val="203864"/>
                </a:solidFill>
                <a:uFillTx/>
                <a:latin typeface="Times New Roman"/>
                <a:ea typeface="Times New Roman"/>
              </a:rPr>
              <a:t>не менее половины членов </a:t>
            </a: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89"/>
          <p:cNvSpPr/>
          <p:nvPr/>
        </p:nvSpPr>
        <p:spPr>
          <a:xfrm>
            <a:off x="5776920" y="2808360"/>
            <a:ext cx="2662200" cy="10508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рганизационное и методическое обеспечение деятельности Коми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одготовка и хранение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Мониторинг исполнен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84"/>
          <p:cNvSpPr/>
          <p:nvPr/>
        </p:nvSpPr>
        <p:spPr>
          <a:xfrm>
            <a:off x="3317760" y="2390760"/>
            <a:ext cx="2373480" cy="68580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>
                  <a:alpha val="97254"/>
                </a:srgbClr>
              </a:gs>
            </a:gsLst>
            <a:lin ang="5400000"/>
          </a:gradFill>
          <a:ln w="648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е руко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ой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8566200" y="152280"/>
            <a:ext cx="417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11240" y="12600"/>
            <a:ext cx="8483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Механизм работы комиссии по повышению устойчив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экономики Воронежской области в условиях санк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Группа 73"/>
          <p:cNvGrpSpPr/>
          <p:nvPr/>
        </p:nvGrpSpPr>
        <p:grpSpPr>
          <a:xfrm>
            <a:off x="1392120" y="770040"/>
            <a:ext cx="6434280" cy="993960"/>
            <a:chOff x="1392120" y="770040"/>
            <a:chExt cx="6434280" cy="993960"/>
          </a:xfrm>
        </p:grpSpPr>
        <p:sp>
          <p:nvSpPr>
            <p:cNvPr id="397" name="Блок-схема: ручное управление 67"/>
            <p:cNvSpPr/>
            <p:nvPr/>
          </p:nvSpPr>
          <p:spPr>
            <a:xfrm>
              <a:off x="1392120" y="793800"/>
              <a:ext cx="6434280" cy="730440"/>
            </a:xfrm>
            <a:prstGeom prst="flowChartManualOperation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4140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72"/>
            <p:cNvSpPr/>
            <p:nvPr/>
          </p:nvSpPr>
          <p:spPr>
            <a:xfrm>
              <a:off x="1744920" y="770040"/>
              <a:ext cx="57078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СЕДАНИЕ  КОМИСС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 повышению устойчивости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ронежской области в условиях санк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Box 77"/>
          <p:cNvSpPr/>
          <p:nvPr/>
        </p:nvSpPr>
        <p:spPr>
          <a:xfrm>
            <a:off x="3603600" y="2027160"/>
            <a:ext cx="1779480" cy="584280"/>
          </a:xfrm>
          <a:prstGeom prst="rect">
            <a:avLst/>
          </a:prstGeom>
          <a:solidFill>
            <a:srgbClr val="ffffff"/>
          </a:solidFill>
          <a:ln w="856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ЕДСЕДАТЕЛЬ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78"/>
          <p:cNvSpPr/>
          <p:nvPr/>
        </p:nvSpPr>
        <p:spPr>
          <a:xfrm>
            <a:off x="979560" y="2495520"/>
            <a:ext cx="1778040" cy="660600"/>
          </a:xfrm>
          <a:prstGeom prst="rect">
            <a:avLst/>
          </a:prstGeom>
          <a:solidFill>
            <a:srgbClr val="ffffff"/>
          </a:solidFill>
          <a:ln w="63360">
            <a:solidFill>
              <a:srgbClr val="849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ЧЛЕНЫ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88"/>
          <p:cNvSpPr/>
          <p:nvPr/>
        </p:nvSpPr>
        <p:spPr>
          <a:xfrm>
            <a:off x="6181560" y="2433600"/>
            <a:ext cx="1778040" cy="585720"/>
          </a:xfrm>
          <a:prstGeom prst="rect">
            <a:avLst/>
          </a:prstGeom>
          <a:solidFill>
            <a:srgbClr val="ffffff"/>
          </a:solidFill>
          <a:ln w="63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ЕКРЕТ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0"/>
          <p:cNvSpPr/>
          <p:nvPr/>
        </p:nvSpPr>
        <p:spPr>
          <a:xfrm>
            <a:off x="1131840" y="2647800"/>
            <a:ext cx="1778040" cy="660600"/>
          </a:xfrm>
          <a:prstGeom prst="rect">
            <a:avLst/>
          </a:prstGeom>
          <a:solidFill>
            <a:srgbClr val="ffffff"/>
          </a:solidFill>
          <a:ln w="63360">
            <a:solidFill>
              <a:srgbClr val="849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ЧЛЕНЫ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1"/>
          <p:cNvSpPr/>
          <p:nvPr/>
        </p:nvSpPr>
        <p:spPr>
          <a:xfrm>
            <a:off x="1284120" y="2800440"/>
            <a:ext cx="1778040" cy="660240"/>
          </a:xfrm>
          <a:prstGeom prst="rect">
            <a:avLst/>
          </a:prstGeom>
          <a:solidFill>
            <a:srgbClr val="ffffff"/>
          </a:solidFill>
          <a:ln w="63360">
            <a:solidFill>
              <a:srgbClr val="849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ЧЛЕНЫ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95"/>
          <p:cNvSpPr/>
          <p:nvPr/>
        </p:nvSpPr>
        <p:spPr>
          <a:xfrm>
            <a:off x="1436760" y="2952720"/>
            <a:ext cx="1778040" cy="660600"/>
          </a:xfrm>
          <a:prstGeom prst="rect">
            <a:avLst/>
          </a:prstGeom>
          <a:solidFill>
            <a:srgbClr val="ffffff"/>
          </a:solidFill>
          <a:ln w="63360">
            <a:solidFill>
              <a:srgbClr val="8497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ЧЛЕНЫ 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Блок-схема: альтернативный процесс 97"/>
          <p:cNvSpPr/>
          <p:nvPr/>
        </p:nvSpPr>
        <p:spPr>
          <a:xfrm>
            <a:off x="1042920" y="798480"/>
            <a:ext cx="381240" cy="343080"/>
          </a:xfrm>
          <a:prstGeom prst="flowChartAlternateProcess">
            <a:avLst/>
          </a:prstGeom>
          <a:solidFill>
            <a:srgbClr val="ffffff"/>
          </a:solidFill>
          <a:ln w="63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авая фигурная скобка 98"/>
          <p:cNvSpPr/>
          <p:nvPr/>
        </p:nvSpPr>
        <p:spPr>
          <a:xfrm rot="5400000">
            <a:off x="4293720" y="852120"/>
            <a:ext cx="219240" cy="6559560"/>
          </a:xfrm>
          <a:custGeom>
            <a:avLst/>
            <a:gdLst>
              <a:gd name="textAreaLeft" fmla="*/ 0 w 219240"/>
              <a:gd name="textAreaRight" fmla="*/ 79200 w 219240"/>
              <a:gd name="textAreaTop" fmla="*/ 47880 h 6559560"/>
              <a:gd name="textAreaBottom" fmla="*/ 6511680 h 655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3"/>
                  <a:pt x="10800" y="506"/>
                </a:cubicBezTo>
                <a:lnTo>
                  <a:pt x="10800" y="9348"/>
                </a:lnTo>
                <a:cubicBezTo>
                  <a:pt x="10800" y="9601"/>
                  <a:pt x="16200" y="9854"/>
                  <a:pt x="21600" y="9854"/>
                </a:cubicBezTo>
                <a:cubicBezTo>
                  <a:pt x="16200" y="9854"/>
                  <a:pt x="10800" y="10107"/>
                  <a:pt x="10800" y="10360"/>
                </a:cubicBezTo>
                <a:lnTo>
                  <a:pt x="10800" y="21094"/>
                </a:lnTo>
                <a:cubicBezTo>
                  <a:pt x="10800" y="2134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9"/>
          <p:cNvSpPr/>
          <p:nvPr/>
        </p:nvSpPr>
        <p:spPr>
          <a:xfrm>
            <a:off x="6685920" y="4608360"/>
            <a:ext cx="225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Выгнутая влево стрелка 102"/>
          <p:cNvSpPr/>
          <p:nvPr/>
        </p:nvSpPr>
        <p:spPr>
          <a:xfrm>
            <a:off x="1420920" y="1593720"/>
            <a:ext cx="1266840" cy="884520"/>
          </a:xfrm>
          <a:custGeom>
            <a:avLst/>
            <a:gdLst>
              <a:gd name="textAreaLeft" fmla="*/ 169560 w 1266840"/>
              <a:gd name="textAreaRight" fmla="*/ 1097280 w 1266840"/>
              <a:gd name="textAreaTop" fmla="*/ 138240 h 884520"/>
              <a:gd name="textAreaBottom" fmla="*/ 635760 h 88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26624"/>
                <a:lnTo>
                  <a:pt x="17831" y="21496"/>
                </a:lnTo>
                <a:lnTo>
                  <a:pt x="21600" y="16200"/>
                </a:lnTo>
                <a:lnTo>
                  <a:pt x="17831" y="10696"/>
                </a:lnTo>
                <a:lnTo>
                  <a:pt x="17831" y="13396"/>
                </a:lnTo>
                <a:arcTo wR="21600" hR="6750" stAng="7173376" swAng="316063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2232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04"/>
          <p:cNvSpPr/>
          <p:nvPr/>
        </p:nvSpPr>
        <p:spPr>
          <a:xfrm>
            <a:off x="771480" y="3803760"/>
            <a:ext cx="76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принимаются простым большинством голосов присутствующих членов Комисс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Выгнутая влево стрелка 105"/>
          <p:cNvSpPr/>
          <p:nvPr/>
        </p:nvSpPr>
        <p:spPr>
          <a:xfrm flipH="1">
            <a:off x="6560280" y="1601640"/>
            <a:ext cx="1266840" cy="884520"/>
          </a:xfrm>
          <a:custGeom>
            <a:avLst/>
            <a:gdLst>
              <a:gd name="textAreaLeft" fmla="*/ 169560 w 1266840"/>
              <a:gd name="textAreaRight" fmla="*/ 1097280 w 1266840"/>
              <a:gd name="textAreaTop" fmla="*/ 138240 h 884520"/>
              <a:gd name="textAreaBottom" fmla="*/ 635760 h 88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26624"/>
                <a:lnTo>
                  <a:pt x="17831" y="21496"/>
                </a:lnTo>
                <a:lnTo>
                  <a:pt x="21600" y="16200"/>
                </a:lnTo>
                <a:lnTo>
                  <a:pt x="17831" y="10696"/>
                </a:lnTo>
                <a:lnTo>
                  <a:pt x="17831" y="13396"/>
                </a:lnTo>
                <a:arcTo wR="21600" hR="6750" stAng="7173376" swAng="3160638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2232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Шестиугольник 107"/>
          <p:cNvSpPr/>
          <p:nvPr/>
        </p:nvSpPr>
        <p:spPr>
          <a:xfrm>
            <a:off x="912960" y="4249800"/>
            <a:ext cx="2570040" cy="496800"/>
          </a:xfrm>
          <a:prstGeom prst="hexagon">
            <a:avLst>
              <a:gd name="adj" fmla="val 25004"/>
              <a:gd name="vf" fmla="val 115470"/>
            </a:avLst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О СОГЛАСОВ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108" descr="плюс минус.jpg"/>
          <p:cNvPicPr/>
          <p:nvPr/>
        </p:nvPicPr>
        <p:blipFill>
          <a:blip r:embed="rId3"/>
          <a:stretch/>
        </p:blipFill>
        <p:spPr>
          <a:xfrm>
            <a:off x="5321160" y="4286160"/>
            <a:ext cx="549360" cy="517680"/>
          </a:xfrm>
          <a:prstGeom prst="rect">
            <a:avLst/>
          </a:prstGeom>
          <a:ln w="0">
            <a:noFill/>
          </a:ln>
        </p:spPr>
      </p:pic>
      <p:sp>
        <p:nvSpPr>
          <p:cNvPr id="413" name="Шестиугольник 109"/>
          <p:cNvSpPr/>
          <p:nvPr/>
        </p:nvSpPr>
        <p:spPr>
          <a:xfrm>
            <a:off x="5872320" y="4280040"/>
            <a:ext cx="2570040" cy="498240"/>
          </a:xfrm>
          <a:prstGeom prst="hexagon">
            <a:avLst>
              <a:gd name="adj" fmla="val 25003"/>
              <a:gd name="vf" fmla="val 11547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ОБ ОТКАЗЕ В СОГЛАСОВ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15"/>
          <p:cNvSpPr/>
          <p:nvPr/>
        </p:nvSpPr>
        <p:spPr>
          <a:xfrm>
            <a:off x="822240" y="4836960"/>
            <a:ext cx="2705040" cy="55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я  закуп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динственного поставщ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Вертикальный свиток 117"/>
          <p:cNvSpPr/>
          <p:nvPr/>
        </p:nvSpPr>
        <p:spPr>
          <a:xfrm>
            <a:off x="3846600" y="5064120"/>
            <a:ext cx="1685880" cy="10857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се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8"/>
          <p:cNvSpPr/>
          <p:nvPr/>
        </p:nvSpPr>
        <p:spPr>
          <a:xfrm>
            <a:off x="808200" y="5470560"/>
            <a:ext cx="2719080" cy="67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единственном поставщик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именование, ОГРН, ИНН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0"/>
          <p:cNvSpPr/>
          <p:nvPr/>
        </p:nvSpPr>
        <p:spPr>
          <a:xfrm>
            <a:off x="5821200" y="4843440"/>
            <a:ext cx="2705400" cy="620640"/>
          </a:xfrm>
          <a:prstGeom prst="rect">
            <a:avLst/>
          </a:prstGeom>
          <a:solidFill>
            <a:srgbClr val="ffffff"/>
          </a:solidFill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ументов требованиям ил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дставл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Стрелка вниз 128"/>
          <p:cNvSpPr/>
          <p:nvPr/>
        </p:nvSpPr>
        <p:spPr>
          <a:xfrm rot="5400000">
            <a:off x="5304240" y="5372640"/>
            <a:ext cx="630000" cy="327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1"/>
          <p:cNvSpPr/>
          <p:nvPr/>
        </p:nvSpPr>
        <p:spPr>
          <a:xfrm>
            <a:off x="5813280" y="5545080"/>
            <a:ext cx="2721240" cy="60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требован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и обоснованности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я санкци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уществление закуп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Стрелка вниз 129"/>
          <p:cNvSpPr/>
          <p:nvPr/>
        </p:nvSpPr>
        <p:spPr>
          <a:xfrm rot="16200000">
            <a:off x="3399480" y="5388840"/>
            <a:ext cx="640080" cy="311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10800000"/>
          </a:gra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трелка вниз 130"/>
          <p:cNvSpPr/>
          <p:nvPr/>
        </p:nvSpPr>
        <p:spPr>
          <a:xfrm>
            <a:off x="4348080" y="4332240"/>
            <a:ext cx="652680" cy="392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1"/>
          <p:cNvSpPr/>
          <p:nvPr/>
        </p:nvSpPr>
        <p:spPr>
          <a:xfrm>
            <a:off x="4082760" y="4762440"/>
            <a:ext cx="1258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форм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ятиугольник 132"/>
          <p:cNvSpPr/>
          <p:nvPr/>
        </p:nvSpPr>
        <p:spPr>
          <a:xfrm>
            <a:off x="1630440" y="6238800"/>
            <a:ext cx="5837040" cy="459000"/>
          </a:xfrm>
          <a:custGeom>
            <a:avLst/>
            <a:gdLst>
              <a:gd name="textAreaLeft" fmla="*/ 0 w 5837040"/>
              <a:gd name="textAreaRight" fmla="*/ 5837400 w 583704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1" y="0"/>
                </a:lnTo>
                <a:lnTo>
                  <a:pt x="21600" y="10800"/>
                </a:lnTo>
                <a:lnTo>
                  <a:pt x="2075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4c7e7"/>
          </a:solidFill>
          <a:ln w="255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итель уведомляется о принятом реше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ечение 1 рабочего дня</a:t>
            </a:r>
            <a:r>
              <a:rPr b="1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его при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Прямая со стрелкой 133"/>
          <p:cNvCxnSpPr/>
          <p:nvPr/>
        </p:nvCxnSpPr>
        <p:spPr>
          <a:xfrm flipH="1">
            <a:off x="7475040" y="6494040"/>
            <a:ext cx="1372320" cy="5400"/>
          </a:xfrm>
          <a:prstGeom prst="straightConnector1">
            <a:avLst/>
          </a:prstGeom>
          <a:ln w="22320">
            <a:solidFill>
              <a:srgbClr val="2f5597"/>
            </a:solidFill>
            <a:miter/>
            <a:tailEnd len="med" type="triangle" w="med"/>
          </a:ln>
        </p:spPr>
      </p:cxnSp>
      <p:cxnSp>
        <p:nvCxnSpPr>
          <p:cNvPr id="425" name="Прямая со стрелкой 136"/>
          <p:cNvCxnSpPr/>
          <p:nvPr/>
        </p:nvCxnSpPr>
        <p:spPr>
          <a:xfrm flipH="1" flipV="1">
            <a:off x="8846280" y="2636280"/>
            <a:ext cx="10440" cy="3873960"/>
          </a:xfrm>
          <a:prstGeom prst="straightConnector1">
            <a:avLst/>
          </a:prstGeom>
          <a:ln w="22320">
            <a:solidFill>
              <a:srgbClr val="2f5597"/>
            </a:solidFill>
            <a:miter/>
          </a:ln>
        </p:spPr>
      </p:cxnSp>
      <p:pic>
        <p:nvPicPr>
          <p:cNvPr id="426" name="Picture 2" descr="C:\Users\mvstudenikina\Desktop\Иконки для презентации\easysetup.png"/>
          <p:cNvPicPr/>
          <p:nvPr/>
        </p:nvPicPr>
        <p:blipFill>
          <a:blip r:embed="rId4"/>
          <a:stretch/>
        </p:blipFill>
        <p:spPr>
          <a:xfrm>
            <a:off x="1962000" y="6199200"/>
            <a:ext cx="5432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Левая круглая скобка 101"/>
          <p:cNvSpPr/>
          <p:nvPr/>
        </p:nvSpPr>
        <p:spPr>
          <a:xfrm flipH="1">
            <a:off x="8441640" y="4938840"/>
            <a:ext cx="304920" cy="163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12600 h 1630080"/>
              <a:gd name="textAreaBottom" fmla="*/ 1617480 h 163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7"/>
                </a:cubicBezTo>
                <a:lnTo>
                  <a:pt x="0" y="21263"/>
                </a:lnTo>
                <a:cubicBezTo>
                  <a:pt x="0" y="21432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37"/>
          <p:cNvSpPr/>
          <p:nvPr/>
        </p:nvSpPr>
        <p:spPr>
          <a:xfrm>
            <a:off x="4705200" y="1401840"/>
            <a:ext cx="4346640" cy="2590560"/>
          </a:xfrm>
          <a:prstGeom prst="rect">
            <a:avLst/>
          </a:prstGeom>
          <a:solidFill>
            <a:srgbClr val="dae3f3"/>
          </a:solidFill>
          <a:ln w="22320">
            <a:solidFill>
              <a:srgbClr val="9dc3e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Загнутый угол 7"/>
          <p:cNvSpPr/>
          <p:nvPr/>
        </p:nvSpPr>
        <p:spPr>
          <a:xfrm>
            <a:off x="3000240" y="3373560"/>
            <a:ext cx="1670040" cy="66492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ц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млн и более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с двумя скругленными противолежащими углами 3"/>
          <p:cNvSpPr/>
          <p:nvPr/>
        </p:nvSpPr>
        <p:spPr>
          <a:xfrm>
            <a:off x="831960" y="1425600"/>
            <a:ext cx="3638520" cy="1805040"/>
          </a:xfrm>
          <a:prstGeom prst="pie">
            <a:avLst/>
          </a:prstGeom>
          <a:solidFill>
            <a:srgbClr val="ffffff"/>
          </a:solidFill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20000"/>
                </a:solidFill>
                <a:latin typeface="Times New Roman"/>
                <a:ea typeface="Times New Roman"/>
              </a:rPr>
              <a:t>ПРИНИМАЕТ РЕШЕНИЕ О СОГЛАСОВАНИИ (ОТКАЗЕ В СОГЛАСОВАНИИ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существенных услов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ного контракта, если при его исполнении возникл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ящие от сторон обстоятельств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лекущ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сть его ис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Выгнутая вправо стрелка 4"/>
          <p:cNvSpPr/>
          <p:nvPr/>
        </p:nvSpPr>
        <p:spPr>
          <a:xfrm flipH="1">
            <a:off x="1986120" y="853920"/>
            <a:ext cx="728640" cy="717840"/>
          </a:xfrm>
          <a:custGeom>
            <a:avLst/>
            <a:gdLst>
              <a:gd name="textAreaLeft" fmla="*/ 97560 w 728640"/>
              <a:gd name="textAreaRight" fmla="*/ 631080 w 728640"/>
              <a:gd name="textAreaTop" fmla="*/ 111960 h 717840"/>
              <a:gd name="textAreaBottom" fmla="*/ 515880 h 71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53595"/>
                <a:lnTo>
                  <a:pt x="5318" y="21392"/>
                </a:lnTo>
                <a:lnTo>
                  <a:pt x="0" y="16200"/>
                </a:lnTo>
                <a:lnTo>
                  <a:pt x="5318" y="10592"/>
                </a:lnTo>
                <a:lnTo>
                  <a:pt x="5318" y="13292"/>
                </a:lnTo>
                <a:arcTo wR="21600" hR="6750" stAng="3053595" swAng="-258760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право стрелка 5"/>
          <p:cNvSpPr/>
          <p:nvPr/>
        </p:nvSpPr>
        <p:spPr>
          <a:xfrm>
            <a:off x="6815160" y="831960"/>
            <a:ext cx="728640" cy="717480"/>
          </a:xfrm>
          <a:custGeom>
            <a:avLst/>
            <a:gdLst>
              <a:gd name="textAreaLeft" fmla="*/ 97560 w 728640"/>
              <a:gd name="textAreaRight" fmla="*/ 631080 w 728640"/>
              <a:gd name="textAreaTop" fmla="*/ 111960 h 717480"/>
              <a:gd name="textAreaBottom" fmla="*/ 5158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53595"/>
                <a:lnTo>
                  <a:pt x="5318" y="21392"/>
                </a:lnTo>
                <a:lnTo>
                  <a:pt x="0" y="16200"/>
                </a:lnTo>
                <a:lnTo>
                  <a:pt x="5318" y="10592"/>
                </a:lnTo>
                <a:lnTo>
                  <a:pt x="5318" y="13292"/>
                </a:lnTo>
                <a:arcTo wR="21600" hR="6750" stAng="3053595" swAng="-2587609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Загнутый угол 6"/>
          <p:cNvGrpSpPr/>
          <p:nvPr/>
        </p:nvGrpSpPr>
        <p:grpSpPr>
          <a:xfrm>
            <a:off x="609480" y="3236760"/>
            <a:ext cx="1828800" cy="927360"/>
            <a:chOff x="609480" y="3236760"/>
            <a:chExt cx="1828800" cy="927360"/>
          </a:xfrm>
        </p:grpSpPr>
        <p:pic>
          <p:nvPicPr>
            <p:cNvPr id="434" name="Загнутый угол 6" descr=""/>
            <p:cNvPicPr/>
            <p:nvPr/>
          </p:nvPicPr>
          <p:blipFill>
            <a:blip r:embed="rId1"/>
            <a:stretch/>
          </p:blipFill>
          <p:spPr>
            <a:xfrm>
              <a:off x="609480" y="3236760"/>
              <a:ext cx="18288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95160" y="3381480"/>
              <a:ext cx="1621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ез огранич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предмет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а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23" descr="G:\Картинки\цена.jpg"/>
          <p:cNvPicPr/>
          <p:nvPr/>
        </p:nvPicPr>
        <p:blipFill>
          <a:blip r:embed="rId2"/>
          <a:stretch/>
        </p:blipFill>
        <p:spPr>
          <a:xfrm>
            <a:off x="2401920" y="3359160"/>
            <a:ext cx="658800" cy="712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C:\Users\mvstudenikina\Desktop\Картинки\Контракт.png"/>
          <p:cNvPicPr/>
          <p:nvPr/>
        </p:nvPicPr>
        <p:blipFill>
          <a:blip r:embed="rId3"/>
          <a:stretch/>
        </p:blipFill>
        <p:spPr>
          <a:xfrm>
            <a:off x="231840" y="3376440"/>
            <a:ext cx="689040" cy="689040"/>
          </a:xfrm>
          <a:prstGeom prst="rect">
            <a:avLst/>
          </a:prstGeom>
          <a:ln w="0">
            <a:noFill/>
          </a:ln>
        </p:spPr>
      </p:pic>
      <p:cxnSp>
        <p:nvCxnSpPr>
          <p:cNvPr id="438" name="Прямая со стрелкой 35"/>
          <p:cNvCxnSpPr/>
          <p:nvPr/>
        </p:nvCxnSpPr>
        <p:spPr>
          <a:xfrm flipH="1">
            <a:off x="1612440" y="3246120"/>
            <a:ext cx="564480" cy="1436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439" name="Прямая со стрелкой 41"/>
          <p:cNvCxnSpPr/>
          <p:nvPr/>
        </p:nvCxnSpPr>
        <p:spPr>
          <a:xfrm>
            <a:off x="3192480" y="3220920"/>
            <a:ext cx="473760" cy="1612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440" name="Группа 22"/>
          <p:cNvGrpSpPr/>
          <p:nvPr/>
        </p:nvGrpSpPr>
        <p:grpSpPr>
          <a:xfrm>
            <a:off x="2717640" y="533520"/>
            <a:ext cx="4089600" cy="1043280"/>
            <a:chOff x="2717640" y="533520"/>
            <a:chExt cx="4089600" cy="1043280"/>
          </a:xfrm>
        </p:grpSpPr>
        <p:sp>
          <p:nvSpPr>
            <p:cNvPr id="441" name="Блок-схема: магнитный диск 13"/>
            <p:cNvSpPr/>
            <p:nvPr/>
          </p:nvSpPr>
          <p:spPr>
            <a:xfrm>
              <a:off x="2717640" y="533520"/>
              <a:ext cx="4089600" cy="768240"/>
            </a:xfrm>
            <a:prstGeom prst="flowChartMagneticDisk">
              <a:avLst/>
            </a:prstGeom>
            <a:gradFill rotWithShape="0">
              <a:gsLst>
                <a:gs pos="0">
                  <a:srgbClr val="afabab"/>
                </a:gs>
                <a:gs pos="100000">
                  <a:srgbClr val="e7e6e6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21"/>
            <p:cNvSpPr/>
            <p:nvPr/>
          </p:nvSpPr>
          <p:spPr>
            <a:xfrm>
              <a:off x="2758680" y="550800"/>
              <a:ext cx="393624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КОМИССИЯ</a:t>
              </a:r>
              <a:r>
                <a:rPr b="1" lang="ru-RU" sz="16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по повышению устойчивос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820000"/>
                  </a:solidFill>
                  <a:latin typeface="Times New Roman"/>
                  <a:ea typeface="Times New Roman"/>
                </a:rPr>
                <a:t>экономики Воронежской обла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Прямоугольник 15"/>
          <p:cNvSpPr/>
          <p:nvPr/>
        </p:nvSpPr>
        <p:spPr>
          <a:xfrm>
            <a:off x="8566200" y="152280"/>
            <a:ext cx="417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187200" y="96840"/>
            <a:ext cx="8483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Согласование существенных изменений условий контра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0"/>
          <p:cNvSpPr/>
          <p:nvPr/>
        </p:nvSpPr>
        <p:spPr>
          <a:xfrm>
            <a:off x="6762600" y="2274840"/>
            <a:ext cx="22212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faa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ых условиях контрак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длежащих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1"/>
          <p:cNvSpPr/>
          <p:nvPr/>
        </p:nvSpPr>
        <p:spPr>
          <a:xfrm>
            <a:off x="6764400" y="1512720"/>
            <a:ext cx="221148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8faa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возникновении обстоятельств, влекущих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зможность исполн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а в условиях са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7"/>
          <p:cNvSpPr/>
          <p:nvPr/>
        </p:nvSpPr>
        <p:spPr>
          <a:xfrm>
            <a:off x="6772320" y="2957400"/>
            <a:ext cx="2211480" cy="44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faa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я контракта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изменений в контр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Прямая со стрелкой 48"/>
          <p:cNvCxnSpPr/>
          <p:nvPr/>
        </p:nvCxnSpPr>
        <p:spPr>
          <a:xfrm flipH="1" flipV="1">
            <a:off x="6270120" y="3588480"/>
            <a:ext cx="496080" cy="305640"/>
          </a:xfrm>
          <a:prstGeom prst="straightConnector1">
            <a:avLst/>
          </a:prstGeom>
          <a:ln w="28440">
            <a:solidFill>
              <a:srgbClr val="2e75b6"/>
            </a:solidFill>
            <a:miter/>
          </a:ln>
        </p:spPr>
      </p:cxnSp>
      <p:cxnSp>
        <p:nvCxnSpPr>
          <p:cNvPr id="449" name="Прямая со стрелкой 65"/>
          <p:cNvCxnSpPr/>
          <p:nvPr/>
        </p:nvCxnSpPr>
        <p:spPr>
          <a:xfrm flipH="1">
            <a:off x="6291000" y="2989080"/>
            <a:ext cx="473760" cy="330840"/>
          </a:xfrm>
          <a:prstGeom prst="straightConnector1">
            <a:avLst/>
          </a:prstGeom>
          <a:ln w="28440">
            <a:solidFill>
              <a:srgbClr val="2e75b6"/>
            </a:solidFill>
            <a:miter/>
          </a:ln>
        </p:spPr>
      </p:cxnSp>
      <p:sp>
        <p:nvSpPr>
          <p:cNvPr id="450" name="Блок-схема: извлечение 70"/>
          <p:cNvSpPr/>
          <p:nvPr/>
        </p:nvSpPr>
        <p:spPr>
          <a:xfrm flipH="1" rot="16200000">
            <a:off x="3933000" y="2463120"/>
            <a:ext cx="1295280" cy="271440"/>
          </a:xfrm>
          <a:prstGeom prst="flowChartExtra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авая фигурная скобка 71"/>
          <p:cNvSpPr/>
          <p:nvPr/>
        </p:nvSpPr>
        <p:spPr>
          <a:xfrm flipH="1" rot="16200000">
            <a:off x="4574880" y="322920"/>
            <a:ext cx="228600" cy="7720200"/>
          </a:xfrm>
          <a:custGeom>
            <a:avLst/>
            <a:gdLst>
              <a:gd name="textAreaLeft" fmla="*/ 0 w 228600"/>
              <a:gd name="textAreaRight" fmla="*/ 82440 w 228600"/>
              <a:gd name="textAreaTop" fmla="*/ 50040 h 7720200"/>
              <a:gd name="textAreaBottom" fmla="*/ 7670160 h 772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49"/>
                </a:cubicBezTo>
                <a:lnTo>
                  <a:pt x="10800" y="10197"/>
                </a:lnTo>
                <a:cubicBezTo>
                  <a:pt x="10800" y="10422"/>
                  <a:pt x="16200" y="10646"/>
                  <a:pt x="21600" y="10646"/>
                </a:cubicBezTo>
                <a:cubicBezTo>
                  <a:pt x="16200" y="10646"/>
                  <a:pt x="10800" y="10871"/>
                  <a:pt x="10800" y="11095"/>
                </a:cubicBezTo>
                <a:lnTo>
                  <a:pt x="10800" y="21151"/>
                </a:lnTo>
                <a:cubicBezTo>
                  <a:pt x="10800" y="213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68"/>
          <p:cNvSpPr/>
          <p:nvPr/>
        </p:nvSpPr>
        <p:spPr>
          <a:xfrm>
            <a:off x="930240" y="4282920"/>
            <a:ext cx="7810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Комиссии принимается в срок </a:t>
            </a: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зднее 5 рабочих дней 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 дня поступления доку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Левая круглая скобка 73"/>
          <p:cNvSpPr/>
          <p:nvPr/>
        </p:nvSpPr>
        <p:spPr>
          <a:xfrm>
            <a:off x="617400" y="4892760"/>
            <a:ext cx="190800" cy="1035000"/>
          </a:xfrm>
          <a:custGeom>
            <a:avLst/>
            <a:gdLst>
              <a:gd name="textAreaLeft" fmla="*/ 56160 w 190800"/>
              <a:gd name="textAreaRight" fmla="*/ 191160 w 190800"/>
              <a:gd name="textAreaTop" fmla="*/ 7920 h 1035000"/>
              <a:gd name="textAreaBottom" fmla="*/ 1027080 h 103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6"/>
                  <a:pt x="0" y="331"/>
                </a:cubicBezTo>
                <a:lnTo>
                  <a:pt x="0" y="21269"/>
                </a:lnTo>
                <a:cubicBezTo>
                  <a:pt x="0" y="21435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5482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Группа 126"/>
          <p:cNvGrpSpPr/>
          <p:nvPr/>
        </p:nvGrpSpPr>
        <p:grpSpPr>
          <a:xfrm>
            <a:off x="3463920" y="4656240"/>
            <a:ext cx="595440" cy="533160"/>
            <a:chOff x="3463920" y="4656240"/>
            <a:chExt cx="595440" cy="533160"/>
          </a:xfrm>
        </p:grpSpPr>
        <p:sp>
          <p:nvSpPr>
            <p:cNvPr id="455" name="TextBox 125"/>
            <p:cNvSpPr/>
            <p:nvPr/>
          </p:nvSpPr>
          <p:spPr>
            <a:xfrm>
              <a:off x="3591360" y="4744080"/>
              <a:ext cx="327960" cy="35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Рисунок 76" descr="плюс минус.jpg"/>
            <p:cNvPicPr/>
            <p:nvPr/>
          </p:nvPicPr>
          <p:blipFill>
            <a:blip r:embed="rId4"/>
            <a:stretch/>
          </p:blipFill>
          <p:spPr>
            <a:xfrm>
              <a:off x="3463920" y="4656240"/>
              <a:ext cx="59544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Шестиугольник 77"/>
          <p:cNvSpPr/>
          <p:nvPr/>
        </p:nvSpPr>
        <p:spPr>
          <a:xfrm>
            <a:off x="912960" y="4646520"/>
            <a:ext cx="2570040" cy="497160"/>
          </a:xfrm>
          <a:prstGeom prst="hexagon">
            <a:avLst>
              <a:gd name="adj" fmla="val 24986"/>
              <a:gd name="vf" fmla="val 115470"/>
            </a:avLst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О СОГЛАСОВ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Рисунок 78" descr="плюс минус.jpg"/>
          <p:cNvPicPr/>
          <p:nvPr/>
        </p:nvPicPr>
        <p:blipFill>
          <a:blip r:embed="rId5"/>
          <a:stretch/>
        </p:blipFill>
        <p:spPr>
          <a:xfrm>
            <a:off x="5321160" y="4681440"/>
            <a:ext cx="549360" cy="519120"/>
          </a:xfrm>
          <a:prstGeom prst="rect">
            <a:avLst/>
          </a:prstGeom>
          <a:ln w="0">
            <a:noFill/>
          </a:ln>
        </p:spPr>
      </p:pic>
      <p:sp>
        <p:nvSpPr>
          <p:cNvPr id="459" name="Шестиугольник 79"/>
          <p:cNvSpPr/>
          <p:nvPr/>
        </p:nvSpPr>
        <p:spPr>
          <a:xfrm>
            <a:off x="5872320" y="4676760"/>
            <a:ext cx="2570040" cy="4986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ОБ ОТКАЗЕ В СОГЛАСОВ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80"/>
          <p:cNvSpPr/>
          <p:nvPr/>
        </p:nvSpPr>
        <p:spPr>
          <a:xfrm>
            <a:off x="822240" y="5234040"/>
            <a:ext cx="270504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щественных условиях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а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ащих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ю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81"/>
          <p:cNvSpPr/>
          <p:nvPr/>
        </p:nvSpPr>
        <p:spPr>
          <a:xfrm>
            <a:off x="5821200" y="5240160"/>
            <a:ext cx="2705400" cy="621000"/>
          </a:xfrm>
          <a:prstGeom prst="rect">
            <a:avLst/>
          </a:prstGeom>
          <a:solidFill>
            <a:srgbClr val="ffffff"/>
          </a:solidFill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ументов требованиям ил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дставл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низ 82"/>
          <p:cNvSpPr/>
          <p:nvPr/>
        </p:nvSpPr>
        <p:spPr>
          <a:xfrm rot="5400000">
            <a:off x="5288400" y="5639400"/>
            <a:ext cx="630360" cy="3272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низ 83"/>
          <p:cNvSpPr/>
          <p:nvPr/>
        </p:nvSpPr>
        <p:spPr>
          <a:xfrm rot="16200000">
            <a:off x="3453480" y="5654880"/>
            <a:ext cx="639720" cy="311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10800000"/>
          </a:gra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низ 84"/>
          <p:cNvSpPr/>
          <p:nvPr/>
        </p:nvSpPr>
        <p:spPr>
          <a:xfrm>
            <a:off x="4348080" y="4637160"/>
            <a:ext cx="652680" cy="3920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85"/>
          <p:cNvSpPr/>
          <p:nvPr/>
        </p:nvSpPr>
        <p:spPr>
          <a:xfrm>
            <a:off x="4082760" y="5097600"/>
            <a:ext cx="1258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форм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Вертикальный свиток 86"/>
          <p:cNvSpPr/>
          <p:nvPr/>
        </p:nvSpPr>
        <p:spPr>
          <a:xfrm>
            <a:off x="3846600" y="5376960"/>
            <a:ext cx="1685880" cy="1206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се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Коми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87"/>
          <p:cNvSpPr/>
          <p:nvPr/>
        </p:nvSpPr>
        <p:spPr>
          <a:xfrm>
            <a:off x="6786720" y="3460680"/>
            <a:ext cx="2211120" cy="44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8faa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ных лимит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юджет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Прямая со стрелкой 93"/>
          <p:cNvCxnSpPr/>
          <p:nvPr/>
        </p:nvCxnSpPr>
        <p:spPr>
          <a:xfrm flipH="1" flipV="1">
            <a:off x="6240240" y="2339640"/>
            <a:ext cx="522720" cy="324720"/>
          </a:xfrm>
          <a:prstGeom prst="straightConnector1">
            <a:avLst/>
          </a:prstGeom>
          <a:ln w="28440">
            <a:solidFill>
              <a:srgbClr val="2e75b6"/>
            </a:solidFill>
            <a:miter/>
          </a:ln>
        </p:spPr>
      </p:cxnSp>
      <p:grpSp>
        <p:nvGrpSpPr>
          <p:cNvPr id="469" name="Группа 60"/>
          <p:cNvGrpSpPr/>
          <p:nvPr/>
        </p:nvGrpSpPr>
        <p:grpSpPr>
          <a:xfrm>
            <a:off x="4746600" y="1601640"/>
            <a:ext cx="1990800" cy="2040120"/>
            <a:chOff x="4746600" y="1601640"/>
            <a:chExt cx="1990800" cy="2040120"/>
          </a:xfrm>
        </p:grpSpPr>
        <p:sp>
          <p:nvSpPr>
            <p:cNvPr id="470" name="TextBox 57"/>
            <p:cNvSpPr/>
            <p:nvPr/>
          </p:nvSpPr>
          <p:spPr>
            <a:xfrm>
              <a:off x="4836600" y="1842840"/>
              <a:ext cx="1435320" cy="17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яв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изменение существе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ловий контра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Группа 186"/>
            <p:cNvGrpSpPr/>
            <p:nvPr/>
          </p:nvGrpSpPr>
          <p:grpSpPr>
            <a:xfrm>
              <a:off x="4746600" y="1601640"/>
              <a:ext cx="1990800" cy="2040120"/>
              <a:chOff x="4746600" y="1601640"/>
              <a:chExt cx="1990800" cy="2040120"/>
            </a:xfrm>
          </p:grpSpPr>
          <p:sp>
            <p:nvSpPr>
              <p:cNvPr id="472" name="Равнобедренный треугольник 54"/>
              <p:cNvSpPr/>
              <p:nvPr/>
            </p:nvSpPr>
            <p:spPr>
              <a:xfrm rot="2625600">
                <a:off x="5933880" y="1753920"/>
                <a:ext cx="558000" cy="290880"/>
              </a:xfrm>
              <a:prstGeom prst="triangle">
                <a:avLst>
                  <a:gd name="adj" fmla="val 50000"/>
                </a:avLst>
              </a:prstGeom>
              <a:solidFill>
                <a:srgbClr val="dae3f3"/>
              </a:solidFill>
              <a:ln w="22320">
                <a:solidFill>
                  <a:srgbClr val="dae3f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Рисунок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4746600" y="1779840"/>
                <a:ext cx="1990800" cy="186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cxnSp>
        <p:nvCxnSpPr>
          <p:cNvPr id="474" name="Прямая со стрелкой 39"/>
          <p:cNvCxnSpPr/>
          <p:nvPr/>
        </p:nvCxnSpPr>
        <p:spPr>
          <a:xfrm flipH="1">
            <a:off x="6149160" y="1512360"/>
            <a:ext cx="616680" cy="477000"/>
          </a:xfrm>
          <a:prstGeom prst="straightConnector1">
            <a:avLst/>
          </a:prstGeom>
          <a:ln w="28440">
            <a:solidFill>
              <a:srgbClr val="2e75b6"/>
            </a:solidFill>
            <a:miter/>
          </a:ln>
        </p:spPr>
      </p:cxnSp>
      <p:pic>
        <p:nvPicPr>
          <p:cNvPr id="475" name="Picture 2" descr="C:\Users\mvstudenikina\Desktop\Иконки для презентации\easysetup.png"/>
          <p:cNvPicPr/>
          <p:nvPr/>
        </p:nvPicPr>
        <p:blipFill>
          <a:blip r:embed="rId7">
            <a:lum contrast="-10000"/>
          </a:blip>
          <a:stretch/>
        </p:blipFill>
        <p:spPr>
          <a:xfrm>
            <a:off x="487440" y="4129200"/>
            <a:ext cx="541440" cy="541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8"/>
          <p:cNvSpPr/>
          <p:nvPr/>
        </p:nvSpPr>
        <p:spPr>
          <a:xfrm>
            <a:off x="5829480" y="5956200"/>
            <a:ext cx="2705040" cy="620640"/>
          </a:xfrm>
          <a:prstGeom prst="rect">
            <a:avLst/>
          </a:prstGeom>
          <a:solidFill>
            <a:srgbClr val="ffffff"/>
          </a:solidFill>
          <a:ln w="2844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никновения независящих от сторо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тоятельств, влекущих невозможность исполн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ятиугольник 100"/>
          <p:cNvSpPr/>
          <p:nvPr/>
        </p:nvSpPr>
        <p:spPr>
          <a:xfrm>
            <a:off x="585720" y="6027840"/>
            <a:ext cx="3186360" cy="699840"/>
          </a:xfrm>
          <a:custGeom>
            <a:avLst/>
            <a:gdLst>
              <a:gd name="textAreaLeft" fmla="*/ 0 w 3186360"/>
              <a:gd name="textAreaRight" fmla="*/ 3186720 w 3186360"/>
              <a:gd name="textAreaTop" fmla="*/ 0 h 699840"/>
              <a:gd name="textAreaBottom" fmla="*/ 699840 h 69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27" y="0"/>
                </a:lnTo>
                <a:lnTo>
                  <a:pt x="21600" y="10800"/>
                </a:lnTo>
                <a:lnTo>
                  <a:pt x="192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5e0b4">
              <a:alpha val="95000"/>
            </a:srgbClr>
          </a:solidFill>
          <a:ln w="255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итель уведомляется о принятом решении </a:t>
            </a:r>
            <a:r>
              <a:rPr b="1" i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ечение 1 рабочего дн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дня его приня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3"/>
          <p:cNvSpPr/>
          <p:nvPr/>
        </p:nvSpPr>
        <p:spPr>
          <a:xfrm>
            <a:off x="8566200" y="152280"/>
            <a:ext cx="417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"/>
          <p:cNvSpPr/>
          <p:nvPr/>
        </p:nvSpPr>
        <p:spPr>
          <a:xfrm>
            <a:off x="187200" y="12600"/>
            <a:ext cx="8483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Результаты работы комиссии по повышению устойчив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экономики в условиях санкций в Воронежской обла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Скругленный прямоугольник 8"/>
          <p:cNvSpPr/>
          <p:nvPr/>
        </p:nvSpPr>
        <p:spPr>
          <a:xfrm>
            <a:off x="2336760" y="779400"/>
            <a:ext cx="5367240" cy="701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41400">
            <a:solidFill>
              <a:srgbClr val="ffffff"/>
            </a:solidFill>
            <a:miter/>
          </a:ln>
          <a:effectLst>
            <a:outerShdw dist="1512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ведено 18 заседаний </a:t>
            </a: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омиссии </a:t>
            </a:r>
            <a:r>
              <a:rPr b="1" lang="ru-RU" sz="16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по повышению устойчивости экономики в условиях санкций</a:t>
            </a: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ятиугольник 6"/>
          <p:cNvSpPr/>
          <p:nvPr/>
        </p:nvSpPr>
        <p:spPr>
          <a:xfrm>
            <a:off x="1062000" y="771480"/>
            <a:ext cx="1892160" cy="701640"/>
          </a:xfrm>
          <a:custGeom>
            <a:avLst/>
            <a:gdLst>
              <a:gd name="textAreaLeft" fmla="*/ 0 w 1892160"/>
              <a:gd name="textAreaRight" fmla="*/ 1892520 w 18921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5" y="0"/>
                </a:lnTo>
                <a:lnTo>
                  <a:pt x="21600" y="10800"/>
                </a:lnTo>
                <a:lnTo>
                  <a:pt x="1759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4140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10 месяц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9" descr="Комиссия 3.png"/>
          <p:cNvPicPr/>
          <p:nvPr/>
        </p:nvPicPr>
        <p:blipFill>
          <a:blip r:embed="rId1"/>
          <a:stretch/>
        </p:blipFill>
        <p:spPr>
          <a:xfrm>
            <a:off x="3828960" y="1743120"/>
            <a:ext cx="1389240" cy="750960"/>
          </a:xfrm>
          <a:prstGeom prst="rect">
            <a:avLst/>
          </a:prstGeom>
          <a:ln w="0">
            <a:noFill/>
          </a:ln>
        </p:spPr>
      </p:pic>
      <p:sp>
        <p:nvSpPr>
          <p:cNvPr id="483" name="Вертикальный свиток 10"/>
          <p:cNvSpPr/>
          <p:nvPr/>
        </p:nvSpPr>
        <p:spPr>
          <a:xfrm>
            <a:off x="1406520" y="1523880"/>
            <a:ext cx="2386080" cy="1278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16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ОВА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 закуп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единственным поставщиком на сумму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56,0 млн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с двумя скругленными противолежащими углами 12"/>
          <p:cNvSpPr/>
          <p:nvPr/>
        </p:nvSpPr>
        <p:spPr>
          <a:xfrm>
            <a:off x="779400" y="2824200"/>
            <a:ext cx="1793880" cy="612720"/>
          </a:xfrm>
          <a:prstGeom prst="pie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ьютерное, серверное оборудование  и комплекту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с двумя скругленными противолежащими углами 13"/>
          <p:cNvSpPr/>
          <p:nvPr/>
        </p:nvSpPr>
        <p:spPr>
          <a:xfrm>
            <a:off x="2567160" y="2808360"/>
            <a:ext cx="1793880" cy="612720"/>
          </a:xfrm>
          <a:prstGeom prst="pie">
            <a:avLst/>
          </a:prstGeom>
          <a:gradFill rotWithShape="0">
            <a:gsLst>
              <a:gs pos="0">
                <a:srgbClr val="afafaf"/>
              </a:gs>
              <a:gs pos="100000">
                <a:srgbClr val="929292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ы по монтажу оборудования и ремон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Вертикальный свиток 14"/>
          <p:cNvSpPr/>
          <p:nvPr/>
        </p:nvSpPr>
        <p:spPr>
          <a:xfrm>
            <a:off x="5327640" y="1542960"/>
            <a:ext cx="2335320" cy="1251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16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ОВА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н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ен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45 контра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15"/>
          <p:cNvSpPr/>
          <p:nvPr/>
        </p:nvSpPr>
        <p:spPr>
          <a:xfrm>
            <a:off x="4910040" y="2809800"/>
            <a:ext cx="1559160" cy="5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цены контракта и  размера ав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ый прямоугольник 16"/>
          <p:cNvSpPr/>
          <p:nvPr/>
        </p:nvSpPr>
        <p:spPr>
          <a:xfrm>
            <a:off x="6477120" y="2801880"/>
            <a:ext cx="1557360" cy="56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d2d2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а поставки товара, выполнения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Диаграмма 20" descr=""/>
          <p:cNvPicPr/>
          <p:nvPr/>
        </p:nvPicPr>
        <p:blipFill>
          <a:blip r:embed="rId2"/>
          <a:stretch/>
        </p:blipFill>
        <p:spPr>
          <a:xfrm>
            <a:off x="2724120" y="4114800"/>
            <a:ext cx="6230880" cy="258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85760" y="4322880"/>
          <a:ext cx="3166920" cy="2146320"/>
        </p:xfrm>
        <a:graphic>
          <a:graphicData uri="http://schemas.openxmlformats.org/drawingml/2006/table">
            <a:tbl>
              <a:tblPr/>
              <a:tblGrid>
                <a:gridCol w="2193840"/>
                <a:gridCol w="973080"/>
              </a:tblGrid>
              <a:tr h="42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 конкурентной процеду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 процеду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212760">
                <a:tc>
                  <a:txBody>
                    <a:bodyPr lIns="36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ие извещения (серв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8.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214560">
                <a:tc>
                  <a:txBody>
                    <a:bodyPr lIns="36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исание контракта (серв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.09.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214200">
                <a:tc>
                  <a:txBody>
                    <a:bodyPr lIns="36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вка оборудования (серв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10.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358560">
                <a:tc>
                  <a:txBody>
                    <a:bodyPr lIns="36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ие извещения (полка расшире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10.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358920">
                <a:tc>
                  <a:txBody>
                    <a:bodyPr lIns="36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исание контракта (полка расшире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.11.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358920">
                <a:tc>
                  <a:txBody>
                    <a:bodyPr lIns="36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авка оборудования (полка расширени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12.2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</a:tbl>
          </a:graphicData>
        </a:graphic>
      </p:graphicFrame>
      <p:pic>
        <p:nvPicPr>
          <p:cNvPr id="491" name="Рисунок 25" descr="время.png"/>
          <p:cNvPicPr/>
          <p:nvPr/>
        </p:nvPicPr>
        <p:blipFill>
          <a:blip r:embed="rId3"/>
          <a:stretch/>
        </p:blipFill>
        <p:spPr>
          <a:xfrm>
            <a:off x="1074600" y="3552840"/>
            <a:ext cx="635040" cy="660240"/>
          </a:xfrm>
          <a:prstGeom prst="rect">
            <a:avLst/>
          </a:prstGeom>
          <a:ln w="0">
            <a:noFill/>
          </a:ln>
        </p:spPr>
      </p:pic>
      <p:sp>
        <p:nvSpPr>
          <p:cNvPr id="492" name="Пятиугольник 37"/>
          <p:cNvSpPr/>
          <p:nvPr/>
        </p:nvSpPr>
        <p:spPr>
          <a:xfrm>
            <a:off x="1817640" y="3606840"/>
            <a:ext cx="2889360" cy="5922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4" y="0"/>
                </a:lnTo>
                <a:lnTo>
                  <a:pt x="21600" y="10800"/>
                </a:lnTo>
                <a:lnTo>
                  <a:pt x="1938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ceef"/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кращение времени на заключение кон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авая фигурная скобка 23"/>
          <p:cNvSpPr/>
          <p:nvPr/>
        </p:nvSpPr>
        <p:spPr>
          <a:xfrm flipH="1" rot="16200000">
            <a:off x="2481120" y="1741320"/>
            <a:ext cx="228600" cy="3581280"/>
          </a:xfrm>
          <a:custGeom>
            <a:avLst/>
            <a:gdLst>
              <a:gd name="textAreaLeft" fmla="*/ 0 w 228600"/>
              <a:gd name="textAreaRight" fmla="*/ 82440 w 228600"/>
              <a:gd name="textAreaTop" fmla="*/ 50040 h 3581280"/>
              <a:gd name="textAreaBottom" fmla="*/ 35312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4"/>
                  <a:pt x="10800" y="967"/>
                </a:cubicBezTo>
                <a:lnTo>
                  <a:pt x="10800" y="9679"/>
                </a:lnTo>
                <a:cubicBezTo>
                  <a:pt x="10800" y="10163"/>
                  <a:pt x="16200" y="10646"/>
                  <a:pt x="21600" y="10646"/>
                </a:cubicBezTo>
                <a:cubicBezTo>
                  <a:pt x="16200" y="10646"/>
                  <a:pt x="10800" y="11130"/>
                  <a:pt x="10800" y="11613"/>
                </a:cubicBezTo>
                <a:lnTo>
                  <a:pt x="10800" y="20633"/>
                </a:lnTo>
                <a:cubicBezTo>
                  <a:pt x="10800" y="2111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Шестиугольник 18"/>
          <p:cNvSpPr/>
          <p:nvPr/>
        </p:nvSpPr>
        <p:spPr>
          <a:xfrm>
            <a:off x="3463920" y="4565520"/>
            <a:ext cx="1058760" cy="3398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/>
          </a:solidFill>
          <a:ln w="316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седание Ко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Прямая со стрелкой 19"/>
          <p:cNvCxnSpPr/>
          <p:nvPr/>
        </p:nvCxnSpPr>
        <p:spPr>
          <a:xfrm flipV="1">
            <a:off x="3949200" y="4904640"/>
            <a:ext cx="1080" cy="345240"/>
          </a:xfrm>
          <a:prstGeom prst="straightConnector1">
            <a:avLst/>
          </a:prstGeom>
          <a:ln w="22320">
            <a:solidFill>
              <a:srgbClr val="4472c4"/>
            </a:solidFill>
            <a:miter/>
          </a:ln>
        </p:spPr>
      </p:cxnSp>
      <p:sp>
        <p:nvSpPr>
          <p:cNvPr id="496" name="Выноска 1 36"/>
          <p:cNvSpPr/>
          <p:nvPr/>
        </p:nvSpPr>
        <p:spPr>
          <a:xfrm>
            <a:off x="5105520" y="3646440"/>
            <a:ext cx="3692520" cy="566640"/>
          </a:xfrm>
          <a:prstGeom prst="borderCallout1">
            <a:avLst>
              <a:gd name="adj1" fmla="val 18750"/>
              <a:gd name="adj2" fmla="val -8333"/>
              <a:gd name="adj3" fmla="val 160324"/>
              <a:gd name="adj4" fmla="val -30398"/>
            </a:avLst>
          </a:prstGeom>
          <a:solidFill>
            <a:srgbClr val="ffffff"/>
          </a:solidFill>
          <a:ln w="2232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заключение нескольких контракт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единственным поставщиком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1 рабочего со дн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положительного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исси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Скругленный прямоугольник 15"/>
          <p:cNvSpPr/>
          <p:nvPr/>
        </p:nvSpPr>
        <p:spPr>
          <a:xfrm>
            <a:off x="290520" y="1389240"/>
            <a:ext cx="8607240" cy="5321160"/>
          </a:xfrm>
          <a:prstGeom prst="roundRect">
            <a:avLst>
              <a:gd name="adj" fmla="val 16667"/>
            </a:avLst>
          </a:prstGeom>
          <a:solidFill>
            <a:srgbClr val="2f5597">
              <a:alpha val="1000"/>
            </a:srgbClr>
          </a:solidFill>
          <a:ln w="15840">
            <a:solidFill>
              <a:srgbClr val="2f559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4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16"/>
          <p:cNvSpPr/>
          <p:nvPr/>
        </p:nvSpPr>
        <p:spPr>
          <a:xfrm flipH="1">
            <a:off x="533520" y="1643040"/>
            <a:ext cx="8153280" cy="9720"/>
          </a:xfrm>
          <a:prstGeom prst="line">
            <a:avLst/>
          </a:prstGeom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17"/>
          <p:cNvSpPr/>
          <p:nvPr/>
        </p:nvSpPr>
        <p:spPr>
          <a:xfrm>
            <a:off x="1235160" y="2840040"/>
            <a:ext cx="6759360" cy="83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0"/>
          <p:cNvSpPr/>
          <p:nvPr/>
        </p:nvSpPr>
        <p:spPr>
          <a:xfrm>
            <a:off x="3977280" y="10288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кругленный прямоугольник 21"/>
          <p:cNvSpPr/>
          <p:nvPr/>
        </p:nvSpPr>
        <p:spPr>
          <a:xfrm>
            <a:off x="1684440" y="905040"/>
            <a:ext cx="5881680" cy="94932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442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и по повышению устойчивости эконом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ронежской области в условиях санкций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Пятиугольник 22" descr=""/>
          <p:cNvPicPr/>
          <p:nvPr/>
        </p:nvPicPr>
        <p:blipFill>
          <a:blip r:embed="rId1"/>
          <a:stretch/>
        </p:blipFill>
        <p:spPr>
          <a:xfrm>
            <a:off x="1670040" y="811080"/>
            <a:ext cx="5913360" cy="60984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23"/>
          <p:cNvSpPr/>
          <p:nvPr/>
        </p:nvSpPr>
        <p:spPr>
          <a:xfrm>
            <a:off x="1241280" y="1947960"/>
            <a:ext cx="6759720" cy="78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4"/>
          <p:cNvSpPr/>
          <p:nvPr/>
        </p:nvSpPr>
        <p:spPr>
          <a:xfrm>
            <a:off x="1940040" y="2075040"/>
            <a:ext cx="5871960" cy="525240"/>
          </a:xfrm>
          <a:prstGeom prst="rect">
            <a:avLst/>
          </a:prstGeom>
          <a:gradFill rotWithShape="0">
            <a:gsLst>
              <a:gs pos="0">
                <a:srgbClr val="dce7f5"/>
              </a:gs>
              <a:gs pos="100000">
                <a:srgbClr val="d1e1f3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одействие негативным последст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дения санкций в экономическ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5"/>
          <p:cNvSpPr/>
          <p:nvPr/>
        </p:nvSpPr>
        <p:spPr>
          <a:xfrm>
            <a:off x="1917720" y="2976480"/>
            <a:ext cx="5894280" cy="509760"/>
          </a:xfrm>
          <a:prstGeom prst="rect">
            <a:avLst/>
          </a:prstGeom>
          <a:gradFill rotWithShape="0">
            <a:gsLst>
              <a:gs pos="0">
                <a:srgbClr val="a8b7df">
                  <a:alpha val="75294"/>
                </a:srgbClr>
              </a:gs>
              <a:gs pos="100000">
                <a:srgbClr val="879ed7">
                  <a:alpha val="63137"/>
                </a:srgbClr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ое обеспечение потребностей заказчиков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товарах, работах, услугах в условиях запрета ввоза иностранной проду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29"/>
          <p:cNvSpPr/>
          <p:nvPr/>
        </p:nvSpPr>
        <p:spPr>
          <a:xfrm flipH="1" flipV="1">
            <a:off x="533520" y="2336400"/>
            <a:ext cx="691920" cy="3240"/>
          </a:xfrm>
          <a:prstGeom prst="line">
            <a:avLst/>
          </a:prstGeom>
          <a:ln w="28440">
            <a:solidFill>
              <a:srgbClr val="2f559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ая соединительная линия 30"/>
          <p:cNvSpPr/>
          <p:nvPr/>
        </p:nvSpPr>
        <p:spPr>
          <a:xfrm flipV="1">
            <a:off x="514440" y="1647360"/>
            <a:ext cx="0" cy="4435560"/>
          </a:xfrm>
          <a:prstGeom prst="line">
            <a:avLst/>
          </a:prstGeom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35"/>
          <p:cNvSpPr/>
          <p:nvPr/>
        </p:nvSpPr>
        <p:spPr>
          <a:xfrm flipH="1" flipV="1">
            <a:off x="8668800" y="1635120"/>
            <a:ext cx="9720" cy="3502080"/>
          </a:xfrm>
          <a:prstGeom prst="line">
            <a:avLst/>
          </a:prstGeom>
          <a:ln w="2844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Рисунок 38" descr=""/>
          <p:cNvPicPr/>
          <p:nvPr/>
        </p:nvPicPr>
        <p:blipFill>
          <a:blip r:embed="rId2"/>
          <a:stretch/>
        </p:blipFill>
        <p:spPr>
          <a:xfrm>
            <a:off x="1225440" y="3992400"/>
            <a:ext cx="663840" cy="57312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53"/>
          <p:cNvSpPr/>
          <p:nvPr/>
        </p:nvSpPr>
        <p:spPr>
          <a:xfrm>
            <a:off x="1225440" y="3817800"/>
            <a:ext cx="6769080" cy="80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54"/>
          <p:cNvSpPr/>
          <p:nvPr/>
        </p:nvSpPr>
        <p:spPr>
          <a:xfrm>
            <a:off x="1917720" y="3959280"/>
            <a:ext cx="5894280" cy="52236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100000">
                <a:srgbClr val="c9c9c9"/>
              </a:gs>
            </a:gsLst>
            <a:lin ang="5400000"/>
          </a:gradFill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за определением единственного поставщика товаров, работ, услуг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 стороны высшего руководства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55"/>
          <p:cNvSpPr/>
          <p:nvPr/>
        </p:nvSpPr>
        <p:spPr>
          <a:xfrm>
            <a:off x="1251000" y="4780080"/>
            <a:ext cx="6759360" cy="77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56"/>
          <p:cNvSpPr/>
          <p:nvPr/>
        </p:nvSpPr>
        <p:spPr>
          <a:xfrm>
            <a:off x="1973160" y="4921200"/>
            <a:ext cx="5842080" cy="500040"/>
          </a:xfrm>
          <a:prstGeom prst="rect">
            <a:avLst/>
          </a:prstGeom>
          <a:gradFill rotWithShape="0">
            <a:gsLst>
              <a:gs pos="0">
                <a:srgbClr val="c5e4ed"/>
              </a:gs>
              <a:gs pos="50000">
                <a:srgbClr val="c5e4ed"/>
              </a:gs>
              <a:gs pos="100000">
                <a:srgbClr val="c5e4ed"/>
              </a:gs>
            </a:gsLst>
            <a:lin ang="5400000"/>
          </a:gradFill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эффективности и результативности  закуп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варов, работ, услуг в условиях санк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61"/>
          <p:cNvSpPr/>
          <p:nvPr/>
        </p:nvSpPr>
        <p:spPr>
          <a:xfrm>
            <a:off x="1251000" y="5694480"/>
            <a:ext cx="6767640" cy="79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2038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62"/>
          <p:cNvSpPr/>
          <p:nvPr/>
        </p:nvSpPr>
        <p:spPr>
          <a:xfrm>
            <a:off x="1973160" y="5835600"/>
            <a:ext cx="5756400" cy="493920"/>
          </a:xfrm>
          <a:prstGeom prst="rect">
            <a:avLst/>
          </a:prstGeom>
          <a:gradFill rotWithShape="0">
            <a:gsLst>
              <a:gs pos="0">
                <a:srgbClr val="dae3f3"/>
              </a:gs>
              <a:gs pos="100000">
                <a:srgbClr val="b4c7e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ение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эффективного расходования бюджетных средств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редством определения добросовестного  поставщ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ая соединительная линия 65"/>
          <p:cNvSpPr/>
          <p:nvPr/>
        </p:nvSpPr>
        <p:spPr>
          <a:xfrm>
            <a:off x="7940520" y="3284640"/>
            <a:ext cx="709920" cy="0"/>
          </a:xfrm>
          <a:prstGeom prst="line">
            <a:avLst/>
          </a:prstGeom>
          <a:ln w="28440">
            <a:solidFill>
              <a:srgbClr val="2f559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ая соединительная линия 67"/>
          <p:cNvSpPr/>
          <p:nvPr/>
        </p:nvSpPr>
        <p:spPr>
          <a:xfrm>
            <a:off x="7981920" y="5137200"/>
            <a:ext cx="709560" cy="0"/>
          </a:xfrm>
          <a:prstGeom prst="line">
            <a:avLst/>
          </a:prstGeom>
          <a:ln w="28440">
            <a:solidFill>
              <a:srgbClr val="2f559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76"/>
          <p:cNvSpPr/>
          <p:nvPr/>
        </p:nvSpPr>
        <p:spPr>
          <a:xfrm flipH="1" flipV="1">
            <a:off x="514080" y="4277880"/>
            <a:ext cx="739800" cy="3240"/>
          </a:xfrm>
          <a:prstGeom prst="line">
            <a:avLst/>
          </a:prstGeom>
          <a:ln w="28440">
            <a:solidFill>
              <a:srgbClr val="2f559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ая соединительная линия 78"/>
          <p:cNvSpPr/>
          <p:nvPr/>
        </p:nvSpPr>
        <p:spPr>
          <a:xfrm flipH="1" flipV="1">
            <a:off x="501120" y="6089400"/>
            <a:ext cx="739800" cy="3240"/>
          </a:xfrm>
          <a:prstGeom prst="line">
            <a:avLst/>
          </a:prstGeom>
          <a:ln w="28440">
            <a:solidFill>
              <a:srgbClr val="2f559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C:\Users\mvstudenikina\Desktop\Картинки\нарушения.png"/>
          <p:cNvPicPr/>
          <p:nvPr/>
        </p:nvPicPr>
        <p:blipFill>
          <a:blip r:embed="rId3"/>
          <a:stretch/>
        </p:blipFill>
        <p:spPr>
          <a:xfrm>
            <a:off x="1371600" y="2041560"/>
            <a:ext cx="622440" cy="5983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C:\Users\mvstudenikina\Desktop\Картинки\контроль 2.png"/>
          <p:cNvPicPr/>
          <p:nvPr/>
        </p:nvPicPr>
        <p:blipFill>
          <a:blip r:embed="rId4"/>
          <a:stretch/>
        </p:blipFill>
        <p:spPr>
          <a:xfrm>
            <a:off x="1249200" y="3919680"/>
            <a:ext cx="665280" cy="633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C:\Users\mvstudenikina\Desktop\Картинки\трудозатраты.png"/>
          <p:cNvPicPr/>
          <p:nvPr/>
        </p:nvPicPr>
        <p:blipFill>
          <a:blip r:embed="rId5"/>
          <a:stretch/>
        </p:blipFill>
        <p:spPr>
          <a:xfrm>
            <a:off x="1189080" y="2846520"/>
            <a:ext cx="779400" cy="792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C:\Users\mvstudenikina\Desktop\Картинки\качество.png"/>
          <p:cNvPicPr/>
          <p:nvPr/>
        </p:nvPicPr>
        <p:blipFill>
          <a:blip r:embed="rId6"/>
          <a:stretch/>
        </p:blipFill>
        <p:spPr>
          <a:xfrm>
            <a:off x="1328760" y="4853160"/>
            <a:ext cx="603360" cy="590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1" descr="C:\Users\mvstudenikina\Desktop\Картинки\Эффект.png"/>
          <p:cNvPicPr/>
          <p:nvPr/>
        </p:nvPicPr>
        <p:blipFill>
          <a:blip r:embed="rId7"/>
          <a:stretch/>
        </p:blipFill>
        <p:spPr>
          <a:xfrm>
            <a:off x="1384200" y="5815080"/>
            <a:ext cx="577800" cy="53640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34"/>
          <p:cNvSpPr/>
          <p:nvPr/>
        </p:nvSpPr>
        <p:spPr>
          <a:xfrm>
            <a:off x="8566200" y="152280"/>
            <a:ext cx="4176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2f559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87200" y="12600"/>
            <a:ext cx="8483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Эффект от деятельности комиссии по повыш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192c4f"/>
                </a:solidFill>
                <a:latin typeface="Times New Roman"/>
                <a:ea typeface="Times New Roman"/>
              </a:rPr>
              <a:t>устойчивости экономики в условиях санк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42"/>
          <p:cNvSpPr/>
          <p:nvPr/>
        </p:nvSpPr>
        <p:spPr>
          <a:xfrm>
            <a:off x="-1346040" y="1020600"/>
            <a:ext cx="4572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Абарина Екатерина Викторовна</cp:lastModifiedBy>
  <cp:lastPrinted>2021-01-25T07:16:17Z</cp:lastPrinted>
  <dcterms:modified xsi:type="dcterms:W3CDTF">2022-11-07T13:23:52Z</dcterms:modified>
  <cp:revision>550</cp:revision>
  <dc:subject/>
  <dc:title>Name of  presentation</dc:title>
</cp:coreProperties>
</file>