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31230-EA17-4D70-805D-A23EA987D7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41728-AE5E-4E32-9544-B6D3C0A73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7662B-B6EE-4A15-9DDE-5F378E27B1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982FA-B39F-404F-814F-105B8DC101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B3928-9E34-4EF6-81AF-18260096A1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4C3C1-E7A8-401D-9B10-88983E0711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371B7-1B61-4466-BC48-181F9D8DDD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B0740-34A0-4C19-8009-D26B83D452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D90-643E-4D14-B250-2C9DB58C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1BB-D602-41D2-8FD9-C1935CAC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6CA-EDBD-4F41-8F66-188C8E74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74E-A892-4DE3-A344-6D438321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49E-750E-4880-8003-F618160B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5D3-DD0F-4458-AE28-D2A7F6D9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BBC-67D2-4701-8F17-FE9F9C57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39A-B4B7-48FA-9183-62D179F7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987-558F-474D-9355-75DE4639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BCD-1075-4D74-B519-DC258AF4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EBF-B633-4BAB-ABD2-4C958FF0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D60-BC89-4267-A435-399BB1E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A0B65-6014-4239-97C4-E25EFB682EFD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3995640" y="0"/>
            <a:ext cx="1184400" cy="1197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0" y="1268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f6228"/>
                </a:solidFill>
                <a:latin typeface="Trebuchet MS"/>
                <a:ea typeface="SimSun-ExtB"/>
              </a:rPr>
              <a:t>Министерство экономического развития Саратовской област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250920" y="2205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Arial Narrow"/>
              </a:rPr>
              <a:t>«</a:t>
            </a:r>
            <a:r>
              <a:rPr b="1" lang="ru-RU" sz="3200" spc="-1" strike="noStrike">
                <a:solidFill>
                  <a:srgbClr val="254061"/>
                </a:solidFill>
                <a:latin typeface="Trebuchet MS"/>
              </a:rPr>
              <a:t>ЭКСПЕРТИЗА ТОВАРОВ, РАБОТ И УСЛУГ В РАМКАХ ИСПОЛНЕНИЯ ГОСУДАРСТВЕННЫХ И МУНИЦИПАЛЬНЫХ КОНТРАКТОВ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«Продукты питания 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для социально-значимых объектов</a:t>
            </a:r>
            <a:r>
              <a:rPr b="1" lang="ru-RU" sz="3200" spc="-1" strike="noStrike">
                <a:solidFill>
                  <a:srgbClr val="c00000"/>
                </a:solidFill>
                <a:latin typeface="Arial Narrow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1"/>
          <p:cNvSpPr/>
          <p:nvPr/>
        </p:nvSpPr>
        <p:spPr>
          <a:xfrm>
            <a:off x="-44280" y="104760"/>
            <a:ext cx="910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-31680" y="572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Чек-листы по основным стадиям экспертизы и приемки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Скругленный прямоугольник 16"/>
          <p:cNvSpPr/>
          <p:nvPr/>
        </p:nvSpPr>
        <p:spPr>
          <a:xfrm>
            <a:off x="108000" y="260280"/>
            <a:ext cx="8785080" cy="612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1" name="Группа 11"/>
          <p:cNvGrpSpPr/>
          <p:nvPr/>
        </p:nvGrpSpPr>
        <p:grpSpPr>
          <a:xfrm>
            <a:off x="826920" y="549360"/>
            <a:ext cx="7285320" cy="287280"/>
            <a:chOff x="826920" y="549360"/>
            <a:chExt cx="7285320" cy="287280"/>
          </a:xfrm>
        </p:grpSpPr>
        <p:sp>
          <p:nvSpPr>
            <p:cNvPr id="112" name="Скругленный прямоугольник 12"/>
            <p:cNvSpPr/>
            <p:nvPr/>
          </p:nvSpPr>
          <p:spPr>
            <a:xfrm>
              <a:off x="826920" y="549360"/>
              <a:ext cx="7285320" cy="287280"/>
            </a:xfrm>
            <a:prstGeom prst="roundRect">
              <a:avLst>
                <a:gd name="adj" fmla="val 10000"/>
              </a:avLst>
            </a:prstGeom>
            <a:noFill/>
            <a:ln w="44280">
              <a:solidFill>
                <a:srgbClr val="4c24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Скругленный прямоугольник 4"/>
            <p:cNvSpPr/>
            <p:nvPr/>
          </p:nvSpPr>
          <p:spPr>
            <a:xfrm>
              <a:off x="850680" y="557280"/>
              <a:ext cx="7250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4" name="Прямоугольник 14"/>
          <p:cNvSpPr/>
          <p:nvPr/>
        </p:nvSpPr>
        <p:spPr>
          <a:xfrm>
            <a:off x="2268360" y="476280"/>
            <a:ext cx="42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c2403"/>
                </a:solidFill>
                <a:latin typeface="Trebuchet MS"/>
                <a:ea typeface="Times New Roman"/>
              </a:rPr>
              <a:t>Входной контро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971640" y="1628640"/>
            <a:ext cx="662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16" name="Object 40"/>
          <p:cNvGraphicFramePr/>
          <p:nvPr/>
        </p:nvGraphicFramePr>
        <p:xfrm>
          <a:off x="181080" y="981000"/>
          <a:ext cx="881064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981000"/>
                    <a:ext cx="88106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Группа 9"/>
          <p:cNvGrpSpPr/>
          <p:nvPr/>
        </p:nvGrpSpPr>
        <p:grpSpPr>
          <a:xfrm>
            <a:off x="755640" y="549360"/>
            <a:ext cx="7540560" cy="358560"/>
            <a:chOff x="755640" y="549360"/>
            <a:chExt cx="7540560" cy="358560"/>
          </a:xfrm>
        </p:grpSpPr>
        <p:sp>
          <p:nvSpPr>
            <p:cNvPr id="119" name="Скругленный прямоугольник 10"/>
            <p:cNvSpPr/>
            <p:nvPr/>
          </p:nvSpPr>
          <p:spPr>
            <a:xfrm>
              <a:off x="755640" y="549360"/>
              <a:ext cx="7540560" cy="358560"/>
            </a:xfrm>
            <a:prstGeom prst="roundRect">
              <a:avLst>
                <a:gd name="adj" fmla="val 10000"/>
              </a:avLst>
            </a:prstGeom>
            <a:noFill/>
            <a:ln w="442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Скругленный прямоугольник 4"/>
            <p:cNvSpPr/>
            <p:nvPr/>
          </p:nvSpPr>
          <p:spPr>
            <a:xfrm>
              <a:off x="779400" y="560160"/>
              <a:ext cx="74660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1" name="Заголовок 1"/>
          <p:cNvSpPr/>
          <p:nvPr/>
        </p:nvSpPr>
        <p:spPr>
          <a:xfrm>
            <a:off x="-44280" y="104760"/>
            <a:ext cx="910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-31680" y="572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Чек-листы по основным стадиям экспертизы и приемки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Скругленный прямоугольник 16"/>
          <p:cNvSpPr/>
          <p:nvPr/>
        </p:nvSpPr>
        <p:spPr>
          <a:xfrm>
            <a:off x="108000" y="260280"/>
            <a:ext cx="8785080" cy="612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2195640" y="54936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rebuchet MS"/>
                <a:ea typeface="Times New Roman"/>
              </a:rPr>
              <a:t>Документарный анализ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5" name="Object 27"/>
          <p:cNvGraphicFramePr/>
          <p:nvPr/>
        </p:nvGraphicFramePr>
        <p:xfrm>
          <a:off x="609480" y="1266840"/>
          <a:ext cx="8105760" cy="80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66840"/>
                    <a:ext cx="8105760" cy="80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Группа 9"/>
          <p:cNvGrpSpPr/>
          <p:nvPr/>
        </p:nvGrpSpPr>
        <p:grpSpPr>
          <a:xfrm>
            <a:off x="539640" y="765000"/>
            <a:ext cx="8136000" cy="719280"/>
            <a:chOff x="539640" y="765000"/>
            <a:chExt cx="8136000" cy="719280"/>
          </a:xfrm>
        </p:grpSpPr>
        <p:sp>
          <p:nvSpPr>
            <p:cNvPr id="128" name="Скругленный прямоугольник 12"/>
            <p:cNvSpPr/>
            <p:nvPr/>
          </p:nvSpPr>
          <p:spPr>
            <a:xfrm>
              <a:off x="539640" y="765000"/>
              <a:ext cx="8136000" cy="719280"/>
            </a:xfrm>
            <a:prstGeom prst="roundRect">
              <a:avLst>
                <a:gd name="adj" fmla="val 10000"/>
              </a:avLst>
            </a:prstGeom>
            <a:noFill/>
            <a:ln w="44280">
              <a:solidFill>
                <a:srgbClr val="b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" name="Скругленный прямоугольник 4"/>
            <p:cNvSpPr/>
            <p:nvPr/>
          </p:nvSpPr>
          <p:spPr>
            <a:xfrm>
              <a:off x="566280" y="785520"/>
              <a:ext cx="8109360" cy="6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0" name="Заголовок 1"/>
          <p:cNvSpPr/>
          <p:nvPr/>
        </p:nvSpPr>
        <p:spPr>
          <a:xfrm>
            <a:off x="-44280" y="104760"/>
            <a:ext cx="910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-31680" y="572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Чек-листы по основным стадиям экспертизы и приемки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Скругленный прямоугольник 16"/>
          <p:cNvSpPr/>
          <p:nvPr/>
        </p:nvSpPr>
        <p:spPr>
          <a:xfrm>
            <a:off x="108000" y="260280"/>
            <a:ext cx="8785080" cy="6121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Прямоугольник 14"/>
          <p:cNvSpPr/>
          <p:nvPr/>
        </p:nvSpPr>
        <p:spPr>
          <a:xfrm>
            <a:off x="2340000" y="765000"/>
            <a:ext cx="429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Анализ по органолептическим показателя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Object 23"/>
          <p:cNvGraphicFramePr/>
          <p:nvPr/>
        </p:nvGraphicFramePr>
        <p:xfrm>
          <a:off x="542880" y="1990800"/>
          <a:ext cx="8191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990800"/>
                    <a:ext cx="8191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0" y="106200"/>
            <a:ext cx="9109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rebuchet MS"/>
                <a:ea typeface="Arial"/>
              </a:rPr>
              <a:t>Факторы риска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Скругленный прямоугольник 11"/>
          <p:cNvSpPr/>
          <p:nvPr/>
        </p:nvSpPr>
        <p:spPr>
          <a:xfrm>
            <a:off x="0" y="730080"/>
            <a:ext cx="8964720" cy="602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449280" algn="just">
              <a:buClr>
                <a:srgbClr val="0000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отсутствие информации о декларации соответствия в Едином реестре на сайте Росаккредитации </a:t>
            </a:r>
            <a:r>
              <a:rPr b="0" lang="ru-RU" sz="1600" spc="-1" strike="noStrike" u="sng">
                <a:solidFill>
                  <a:srgbClr val="002060"/>
                </a:solidFill>
                <a:uFillTx/>
                <a:latin typeface="Trebuchet MS"/>
                <a:ea typeface="Arial"/>
              </a:rPr>
              <a:t>https://pub.fsa.gov.ru/rds/declaration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  (далее – Реестр)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449280" algn="just">
              <a:buClr>
                <a:srgbClr val="33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несоответствие представленной поставщиком декларации сведениям Реестр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449280" algn="just">
              <a:buClr>
                <a:srgbClr val="66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наличие в Реестре информации о статусе действия декларации – прекращено или приостановлено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449280" algn="just"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несоответствие эВСД номерных знаков транспортного средства, осуществившего доставку или маршрута следования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449280" algn="just">
              <a:buClr>
                <a:srgbClr val="cc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отсутствие либо недостаточно четкая маркировка на транспортной упаковке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449280" algn="just">
              <a:buClr>
                <a:srgbClr val="ff33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нарушение целостности упаковки, наличие загрязнений и деформации транспортной  упаковки, дефекты в заделке упаковочного материал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449280" algn="just">
              <a:buClr>
                <a:srgbClr val="ff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отсутствие на упаковке (таре) информации для потребителя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449280" algn="just">
              <a:buClr>
                <a:srgbClr val="ff0066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несоответствие информации о дате выработки продукции, указанной в эВСД, информации, указанной на маркировке/упаковке товара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449280" algn="just">
              <a:buClr>
                <a:srgbClr val="ff505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  <a:ea typeface="Arial"/>
              </a:rPr>
              <a:t>установленное несоответствие товара по органолептическим показателям требованиям нормативных документов и положениям контракт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28600" y="9000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Заголовок 1"/>
          <p:cNvSpPr/>
          <p:nvPr/>
        </p:nvSpPr>
        <p:spPr>
          <a:xfrm>
            <a:off x="34920" y="0"/>
            <a:ext cx="910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rebuchet MS"/>
                <a:ea typeface="Times New Roman"/>
              </a:rPr>
              <a:t>Рекомендации по привлечению независимых экспертов (на примере молочной продукции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228600" y="9000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1"/>
          <a:stretch/>
        </p:blipFill>
        <p:spPr>
          <a:xfrm>
            <a:off x="171360" y="853920"/>
            <a:ext cx="880128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79280" y="404640"/>
            <a:ext cx="3606480" cy="5648400"/>
            <a:chOff x="179280" y="404640"/>
            <a:chExt cx="3606480" cy="5648400"/>
          </a:xfrm>
        </p:grpSpPr>
        <p:sp>
          <p:nvSpPr>
            <p:cNvPr id="143" name="椭圆 2"/>
            <p:cNvSpPr/>
            <p:nvPr/>
          </p:nvSpPr>
          <p:spPr>
            <a:xfrm>
              <a:off x="179280" y="1898280"/>
              <a:ext cx="2484720" cy="248436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971280" y="404640"/>
              <a:ext cx="197640" cy="1404360"/>
              <a:chOff x="971280" y="404640"/>
              <a:chExt cx="197640" cy="1404360"/>
            </a:xfrm>
          </p:grpSpPr>
          <p:sp>
            <p:nvSpPr>
              <p:cNvPr id="145" name="直接连接符 4"/>
              <p:cNvSpPr/>
              <p:nvPr/>
            </p:nvSpPr>
            <p:spPr>
              <a:xfrm>
                <a:off x="1043280" y="620640"/>
                <a:ext cx="9000" cy="11883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6" name="椭圆 8"/>
              <p:cNvSpPr/>
              <p:nvPr/>
            </p:nvSpPr>
            <p:spPr>
              <a:xfrm>
                <a:off x="971280" y="404640"/>
                <a:ext cx="197640" cy="19836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47" name="直接连接符 15"/>
            <p:cNvSpPr/>
            <p:nvPr/>
          </p:nvSpPr>
          <p:spPr>
            <a:xfrm>
              <a:off x="2731320" y="3488760"/>
              <a:ext cx="989640" cy="109800"/>
            </a:xfrm>
            <a:prstGeom prst="line">
              <a:avLst/>
            </a:prstGeom>
            <a:ln w="76320">
              <a:solidFill>
                <a:srgbClr val="1395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48" name="Group 10"/>
            <p:cNvGrpSpPr/>
            <p:nvPr/>
          </p:nvGrpSpPr>
          <p:grpSpPr>
            <a:xfrm>
              <a:off x="2339280" y="1555200"/>
              <a:ext cx="694800" cy="577080"/>
              <a:chOff x="2339280" y="1555200"/>
              <a:chExt cx="694800" cy="577080"/>
            </a:xfrm>
          </p:grpSpPr>
          <p:sp>
            <p:nvSpPr>
              <p:cNvPr id="149" name="直接连接符 21"/>
              <p:cNvSpPr/>
              <p:nvPr/>
            </p:nvSpPr>
            <p:spPr>
              <a:xfrm flipH="1">
                <a:off x="2339280" y="1749600"/>
                <a:ext cx="491400" cy="38268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0" name="椭圆 22"/>
              <p:cNvSpPr/>
              <p:nvPr/>
            </p:nvSpPr>
            <p:spPr>
              <a:xfrm rot="2982600">
                <a:off x="2810880" y="1590840"/>
                <a:ext cx="182520" cy="19044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51" name="直接连接符 25"/>
            <p:cNvSpPr/>
            <p:nvPr/>
          </p:nvSpPr>
          <p:spPr>
            <a:xfrm flipH="1">
              <a:off x="2730600" y="2662200"/>
              <a:ext cx="846000" cy="236520"/>
            </a:xfrm>
            <a:prstGeom prst="line">
              <a:avLst/>
            </a:prstGeom>
            <a:ln w="7632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52" name="Group 16"/>
            <p:cNvGrpSpPr/>
            <p:nvPr/>
          </p:nvGrpSpPr>
          <p:grpSpPr>
            <a:xfrm>
              <a:off x="1043280" y="2564640"/>
              <a:ext cx="2742480" cy="3488400"/>
              <a:chOff x="1043280" y="2564640"/>
              <a:chExt cx="2742480" cy="3488400"/>
            </a:xfrm>
          </p:grpSpPr>
          <p:sp>
            <p:nvSpPr>
              <p:cNvPr id="153" name="直接连接符 28"/>
              <p:cNvSpPr/>
              <p:nvPr/>
            </p:nvSpPr>
            <p:spPr>
              <a:xfrm flipV="1">
                <a:off x="1043280" y="4508640"/>
                <a:ext cx="20520" cy="1544400"/>
              </a:xfrm>
              <a:prstGeom prst="line">
                <a:avLst/>
              </a:prstGeom>
              <a:ln w="76320">
                <a:solidFill>
                  <a:srgbClr val="604a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4" name="椭圆 29"/>
              <p:cNvSpPr/>
              <p:nvPr/>
            </p:nvSpPr>
            <p:spPr>
              <a:xfrm rot="5864400">
                <a:off x="3574800" y="2576880"/>
                <a:ext cx="198360" cy="198360"/>
              </a:xfrm>
              <a:prstGeom prst="ellipse">
                <a:avLst/>
              </a:prstGeom>
              <a:noFill/>
              <a:ln w="7632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55" name="TextBox 31"/>
          <p:cNvSpPr/>
          <p:nvPr/>
        </p:nvSpPr>
        <p:spPr>
          <a:xfrm>
            <a:off x="0" y="2349360"/>
            <a:ext cx="2879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Trebuchet MS"/>
                <a:ea typeface="Times New Roman"/>
              </a:rPr>
              <a:t>Разработка типовых инструкций позволи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1258920" y="115920"/>
            <a:ext cx="72738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создать единую методологическую основу организации приемки молочной и мясной продукции, составляющей около 70 % в общей стоимости продуктов пит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3059280" y="1125360"/>
            <a:ext cx="568944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сформировать четкий алгоритм действий приемочных комиссий, в т.ч. по проверке подлинности документов, подтверждающих качество и безопасность продуктов пит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TextBox 46"/>
          <p:cNvSpPr/>
          <p:nvPr/>
        </p:nvSpPr>
        <p:spPr>
          <a:xfrm>
            <a:off x="3995640" y="2349360"/>
            <a:ext cx="4969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взаимоувязать процессы приемки по контрактам и работы с ЭВС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TextBox 52"/>
          <p:cNvSpPr/>
          <p:nvPr/>
        </p:nvSpPr>
        <p:spPr>
          <a:xfrm>
            <a:off x="3995640" y="3213000"/>
            <a:ext cx="5040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разработать критерии риск-ориентированного подхода к привлечению внешних эксперт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TextBox 57"/>
          <p:cNvSpPr/>
          <p:nvPr/>
        </p:nvSpPr>
        <p:spPr>
          <a:xfrm>
            <a:off x="3132000" y="4221000"/>
            <a:ext cx="57978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определить примерный перечень вопросов для включения в договор на проведение экспертизы в случае привлечения внешних экспертов  (с учетом требований ГОСТ, ТР ТС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TextBox 23"/>
          <p:cNvSpPr/>
          <p:nvPr/>
        </p:nvSpPr>
        <p:spPr>
          <a:xfrm>
            <a:off x="1116000" y="537372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облегчить процесс обучения вновь назначаемых сотрудников приемочных комиссий, в т.ч. за счет свода основных государственных стандартов и технических регламентов по конкретным видам продукции (требования к качеству товаров, их маркировке, упаковке и т.д.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椭圆 29"/>
          <p:cNvSpPr/>
          <p:nvPr/>
        </p:nvSpPr>
        <p:spPr>
          <a:xfrm rot="5864400">
            <a:off x="3719880" y="3513600"/>
            <a:ext cx="198360" cy="196920"/>
          </a:xfrm>
          <a:prstGeom prst="ellipse">
            <a:avLst/>
          </a:prstGeom>
          <a:noFill/>
          <a:ln w="76320">
            <a:solidFill>
              <a:srgbClr val="139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直接连接符 15"/>
          <p:cNvSpPr/>
          <p:nvPr/>
        </p:nvSpPr>
        <p:spPr>
          <a:xfrm>
            <a:off x="2268360" y="4292640"/>
            <a:ext cx="698760" cy="393840"/>
          </a:xfrm>
          <a:prstGeom prst="line">
            <a:avLst/>
          </a:prstGeom>
          <a:ln w="76320">
            <a:solidFill>
              <a:srgbClr val="a02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椭圆 29"/>
          <p:cNvSpPr/>
          <p:nvPr/>
        </p:nvSpPr>
        <p:spPr>
          <a:xfrm rot="5864400">
            <a:off x="2928240" y="4665240"/>
            <a:ext cx="196920" cy="196920"/>
          </a:xfrm>
          <a:prstGeom prst="ellipse">
            <a:avLst/>
          </a:prstGeom>
          <a:noFill/>
          <a:ln w="76320">
            <a:solidFill>
              <a:srgbClr val="a02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椭圆 29"/>
          <p:cNvSpPr/>
          <p:nvPr/>
        </p:nvSpPr>
        <p:spPr>
          <a:xfrm rot="5864400">
            <a:off x="911160" y="6033240"/>
            <a:ext cx="196920" cy="198360"/>
          </a:xfrm>
          <a:prstGeom prst="ellipse">
            <a:avLst/>
          </a:prstGeom>
          <a:noFill/>
          <a:ln w="7632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200" y="33480"/>
            <a:ext cx="910908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Структура закупок</a:t>
            </a:r>
            <a:r>
              <a:rPr b="1" lang="en-US" sz="29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продуктов питания в 2020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52280" y="2432160"/>
            <a:ext cx="280836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a8ba02"/>
                </a:solidFill>
                <a:latin typeface="Trebuchet MS"/>
                <a:ea typeface="Times New Roman"/>
              </a:rPr>
              <a:t>0,2 млрд. ру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Овощи, картофель и бахчевы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0,1 млрд. ру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Хлеб и хлебобулочные издел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609e5"/>
                </a:solidFill>
                <a:latin typeface="Trebuchet MS"/>
                <a:ea typeface="Times New Roman"/>
              </a:rPr>
              <a:t>0,2 млрд. ру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Проч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183360" y="3179880"/>
            <a:ext cx="2736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39505"/>
                </a:solidFill>
                <a:latin typeface="Trebuchet MS"/>
                <a:ea typeface="Times New Roman"/>
              </a:rPr>
              <a:t>0,5 млрд. ру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Мясо и мясопродукт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482c8"/>
                </a:solidFill>
                <a:latin typeface="Trebuchet MS"/>
                <a:ea typeface="Times New Roman"/>
              </a:rPr>
              <a:t>0,7 млрд. руб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Молоко и молочные продукт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Содержимое 5"/>
          <p:cNvSpPr/>
          <p:nvPr/>
        </p:nvSpPr>
        <p:spPr>
          <a:xfrm>
            <a:off x="0" y="692280"/>
            <a:ext cx="914400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254061"/>
              </a:buClr>
              <a:buSzPct val="75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>
                <a:solidFill>
                  <a:srgbClr val="283114"/>
                </a:solidFill>
                <a:latin typeface="Trebuchet MS"/>
                <a:ea typeface="Times New Roman"/>
              </a:rPr>
              <a:t>Объем закупок – </a:t>
            </a:r>
            <a:r>
              <a:rPr b="1" lang="ru-RU" sz="17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1,7 млрд. руб.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254061"/>
              </a:buClr>
              <a:buSzPct val="75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>
                <a:solidFill>
                  <a:srgbClr val="283114"/>
                </a:solidFill>
                <a:latin typeface="Trebuchet MS"/>
                <a:ea typeface="Times New Roman"/>
              </a:rPr>
              <a:t>Количество заказчиков - </a:t>
            </a:r>
            <a:r>
              <a:rPr b="1" lang="ru-RU" sz="17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1854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>
                <a:solidFill>
                  <a:srgbClr val="283114"/>
                </a:solidFill>
                <a:latin typeface="Trebuchet MS"/>
                <a:ea typeface="Times New Roman"/>
              </a:rPr>
              <a:t>Количество контрактов - </a:t>
            </a:r>
            <a:r>
              <a:rPr b="1" lang="ru-RU" sz="17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77404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ctr">
              <a:spcBef>
                <a:spcPts val="601"/>
              </a:spcBef>
              <a:buClr>
                <a:srgbClr val="4f6228"/>
              </a:buClr>
              <a:buSzPct val="75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2000" spc="-1" strike="noStrike" u="sng">
                <a:solidFill>
                  <a:srgbClr val="283114"/>
                </a:solidFill>
                <a:uFillTx/>
                <a:latin typeface="Trebuchet MS"/>
                <a:ea typeface="Times New Roman"/>
              </a:rPr>
              <a:t>Количество приемок и экспертиз по контрактам –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rebuchet MS"/>
                <a:ea typeface="Times New Roman"/>
              </a:rPr>
              <a:t>более 1 млн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5942160"/>
            <a:ext cx="91328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1,2 млрд. руб. – </a:t>
            </a:r>
            <a:r>
              <a:rPr b="1" lang="ru-RU" sz="2300" spc="-1" strike="noStrike" u="sng">
                <a:solidFill>
                  <a:srgbClr val="ff0000"/>
                </a:solidFill>
                <a:uFillTx/>
                <a:latin typeface="Trebuchet MS"/>
                <a:ea typeface="Times New Roman"/>
              </a:rPr>
              <a:t>70%</a:t>
            </a:r>
            <a:r>
              <a:rPr b="1" lang="ru-RU" sz="23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  </a:t>
            </a:r>
            <a:r>
              <a:rPr b="1" lang="ru-RU" sz="2300" spc="-1" strike="noStrike" u="sng">
                <a:solidFill>
                  <a:srgbClr val="002060"/>
                </a:solidFill>
                <a:uFillTx/>
                <a:latin typeface="Trebuchet MS"/>
                <a:ea typeface="Times New Roman"/>
              </a:rPr>
              <a:t>Продукция животного происхождения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на которую требуется оформление ВСД в электронной форм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  <a:ea typeface="Times New Roman"/>
              </a:rPr>
              <a:t>(ФГИС «Меркурий»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" name="Диаграмма 7" descr=""/>
          <p:cNvPicPr/>
          <p:nvPr/>
        </p:nvPicPr>
        <p:blipFill>
          <a:blip r:embed="rId1"/>
          <a:stretch/>
        </p:blipFill>
        <p:spPr>
          <a:xfrm>
            <a:off x="2316240" y="2359080"/>
            <a:ext cx="45482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  <a:ea typeface="Cambria Math"/>
              </a:rPr>
              <a:t>Основные задачи участия в пилотном проект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Прямоугольник 5" descr=""/>
          <p:cNvPicPr/>
          <p:nvPr/>
        </p:nvPicPr>
        <p:blipFill>
          <a:blip r:embed="rId1"/>
          <a:stretch/>
        </p:blipFill>
        <p:spPr>
          <a:xfrm>
            <a:off x="-1139760" y="-85680"/>
            <a:ext cx="354168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2"/>
          <a:stretch/>
        </p:blipFill>
        <p:spPr>
          <a:xfrm>
            <a:off x="-1122480" y="1859040"/>
            <a:ext cx="3541680" cy="29988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8" descr=""/>
          <p:cNvPicPr/>
          <p:nvPr/>
        </p:nvPicPr>
        <p:blipFill>
          <a:blip r:embed="rId3"/>
          <a:stretch/>
        </p:blipFill>
        <p:spPr>
          <a:xfrm>
            <a:off x="-1152360" y="3730680"/>
            <a:ext cx="3541680" cy="2998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179280" y="907920"/>
            <a:ext cx="8745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928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rebuchet MS"/>
                <a:ea typeface="Cambria Math"/>
              </a:rPr>
              <a:t>Улучшить качество работы приемочных комиссий исходя из возможностей, предоставляемых ГИС «Меркурий» и электронными реестрами деклараций и сертификатов, размещаемых на сайте Росаккредитац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44928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631755"/>
                </a:solidFill>
                <a:latin typeface="Trebuchet MS"/>
                <a:ea typeface="Cambria Math"/>
              </a:rPr>
              <a:t>Алгоритмизировать приемку продукции животного происхождения с учетом анализа информации в электронных ветеринарных сопроводительных документах и их гаш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44928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44928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9a3e00"/>
                </a:solidFill>
                <a:latin typeface="Trebuchet MS"/>
                <a:ea typeface="Cambria Math"/>
              </a:rPr>
              <a:t>Определить критерии риск-ориентированного подхода к привлечению независимых экспертов для оценки качества продукц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20"/>
          <p:cNvGrpSpPr/>
          <p:nvPr/>
        </p:nvGrpSpPr>
        <p:grpSpPr>
          <a:xfrm>
            <a:off x="34920" y="6742080"/>
            <a:ext cx="9144000" cy="71640"/>
            <a:chOff x="34920" y="6742080"/>
            <a:chExt cx="9144000" cy="71640"/>
          </a:xfrm>
        </p:grpSpPr>
        <p:sp>
          <p:nvSpPr>
            <p:cNvPr id="63" name="Line 6"/>
            <p:cNvSpPr/>
            <p:nvPr/>
          </p:nvSpPr>
          <p:spPr>
            <a:xfrm>
              <a:off x="34920" y="6742080"/>
              <a:ext cx="9144000" cy="0"/>
            </a:xfrm>
            <a:prstGeom prst="line">
              <a:avLst/>
            </a:prstGeom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34920" y="681372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5" name="Содержимое 5"/>
          <p:cNvSpPr/>
          <p:nvPr/>
        </p:nvSpPr>
        <p:spPr>
          <a:xfrm>
            <a:off x="108000" y="836640"/>
            <a:ext cx="8928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01929"/>
                </a:solidFill>
                <a:latin typeface="Trebuchet MS"/>
              </a:rPr>
              <a:t>Государственное учреждение здравоохран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01929"/>
                </a:solidFill>
                <a:latin typeface="Trebuchet MS"/>
              </a:rPr>
              <a:t>«Саратовская городская клиническая больница № 10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122031"/>
                </a:solidFill>
                <a:latin typeface="Trebuchet MS"/>
              </a:rPr>
              <a:t>Масло сливочно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ccff33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122031"/>
                </a:solidFill>
                <a:latin typeface="Trebuchet MS"/>
              </a:rPr>
              <a:t>Молоко питьево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99ff33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122031"/>
                </a:solidFill>
                <a:latin typeface="Trebuchet MS"/>
              </a:rPr>
              <a:t>Ряженк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122031"/>
                </a:solidFill>
                <a:latin typeface="Trebuchet MS"/>
              </a:rPr>
              <a:t>Кефир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501862"/>
                </a:solidFill>
                <a:latin typeface="Trebuchet MS"/>
              </a:rPr>
              <a:t>Государственное бюджетное учреждение Саратовской</a:t>
            </a:r>
            <a:r>
              <a:rPr b="1" lang="en-US" sz="2400" spc="-1" strike="noStrike">
                <a:solidFill>
                  <a:srgbClr val="50186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501862"/>
                </a:solidFill>
                <a:latin typeface="Trebuchet MS"/>
              </a:rPr>
              <a:t>области «Центр социальной помощи семье и детям г. Саратова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ff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122031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122031"/>
                </a:solidFill>
                <a:latin typeface="Trebuchet MS"/>
              </a:rPr>
              <a:t>Масло сливочно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cc66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122031"/>
                </a:solidFill>
                <a:latin typeface="Trebuchet MS"/>
              </a:rPr>
              <a:t>Ряженк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9966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122031"/>
                </a:solidFill>
                <a:latin typeface="Trebuchet MS"/>
              </a:rPr>
              <a:t>Говядина охлажденн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6666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122031"/>
                </a:solidFill>
                <a:latin typeface="Trebuchet MS"/>
              </a:rPr>
              <a:t>Поставка рыбы морожен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0" y="212760"/>
            <a:ext cx="917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Trebuchet MS"/>
                <a:ea typeface="Arial"/>
              </a:rPr>
              <a:t>Учреждения – участники пилотного проекта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" y="404280"/>
            <a:ext cx="91440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  <a:ea typeface="Arial"/>
              </a:rPr>
              <a:t>Исследование на показатели качества и фальсификации продукции в ФГБУ «Саратовская межобластная ветеринарная лаборатория»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krasnoborodnp\AppData\Local\Microsoft\Windows\Temporary Internet Files\Content.Outlook\MNN76QE3\PHOTO-2021-03-18-12-18-18.jpg"/>
          <p:cNvPicPr/>
          <p:nvPr/>
        </p:nvPicPr>
        <p:blipFill>
          <a:blip r:embed="rId1"/>
          <a:stretch/>
        </p:blipFill>
        <p:spPr>
          <a:xfrm>
            <a:off x="860400" y="2344680"/>
            <a:ext cx="5845320" cy="3881520"/>
          </a:xfrm>
          <a:prstGeom prst="rect">
            <a:avLst/>
          </a:prstGeom>
          <a:ln w="9360">
            <a:solidFill>
              <a:srgbClr val="385d8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108000" y="333360"/>
            <a:ext cx="4319640" cy="5472000"/>
            <a:chOff x="108000" y="333360"/>
            <a:chExt cx="4319640" cy="5472000"/>
          </a:xfrm>
        </p:grpSpPr>
        <p:sp>
          <p:nvSpPr>
            <p:cNvPr id="70" name="椭圆 2"/>
            <p:cNvSpPr/>
            <p:nvPr/>
          </p:nvSpPr>
          <p:spPr>
            <a:xfrm>
              <a:off x="108000" y="1844640"/>
              <a:ext cx="3311640" cy="331308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1" name="Group 4"/>
            <p:cNvGrpSpPr/>
            <p:nvPr/>
          </p:nvGrpSpPr>
          <p:grpSpPr>
            <a:xfrm>
              <a:off x="1620000" y="333360"/>
              <a:ext cx="263160" cy="1368000"/>
              <a:chOff x="1620000" y="333360"/>
              <a:chExt cx="263160" cy="1368000"/>
            </a:xfrm>
          </p:grpSpPr>
          <p:sp>
            <p:nvSpPr>
              <p:cNvPr id="72" name="直接连接符 4"/>
              <p:cNvSpPr/>
              <p:nvPr/>
            </p:nvSpPr>
            <p:spPr>
              <a:xfrm>
                <a:off x="1752120" y="596880"/>
                <a:ext cx="12240" cy="110448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" name="椭圆 8"/>
              <p:cNvSpPr/>
              <p:nvPr/>
            </p:nvSpPr>
            <p:spPr>
              <a:xfrm>
                <a:off x="1620000" y="333360"/>
                <a:ext cx="26316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74" name="直接连接符 15"/>
            <p:cNvSpPr/>
            <p:nvPr/>
          </p:nvSpPr>
          <p:spPr>
            <a:xfrm>
              <a:off x="3510000" y="3965400"/>
              <a:ext cx="917640" cy="563400"/>
            </a:xfrm>
            <a:prstGeom prst="line">
              <a:avLst/>
            </a:prstGeom>
            <a:ln w="7632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5" name="Group 10"/>
            <p:cNvGrpSpPr/>
            <p:nvPr/>
          </p:nvGrpSpPr>
          <p:grpSpPr>
            <a:xfrm>
              <a:off x="2842560" y="1333800"/>
              <a:ext cx="776880" cy="724320"/>
              <a:chOff x="2842560" y="1333800"/>
              <a:chExt cx="776880" cy="724320"/>
            </a:xfrm>
          </p:grpSpPr>
          <p:sp>
            <p:nvSpPr>
              <p:cNvPr id="76" name="直接连接符 21"/>
              <p:cNvSpPr/>
              <p:nvPr/>
            </p:nvSpPr>
            <p:spPr>
              <a:xfrm flipH="1">
                <a:off x="2842560" y="1596240"/>
                <a:ext cx="514440" cy="46188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" name="椭圆 22"/>
              <p:cNvSpPr/>
              <p:nvPr/>
            </p:nvSpPr>
            <p:spPr>
              <a:xfrm rot="2982600">
                <a:off x="3320640" y="1381680"/>
                <a:ext cx="244440" cy="25560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78" name="直接连接符 25"/>
            <p:cNvSpPr/>
            <p:nvPr/>
          </p:nvSpPr>
          <p:spPr>
            <a:xfrm flipH="1">
              <a:off x="3510000" y="3014640"/>
              <a:ext cx="449280" cy="164880"/>
            </a:xfrm>
            <a:prstGeom prst="line">
              <a:avLst/>
            </a:prstGeom>
            <a:ln w="7632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79" name="Group 16"/>
            <p:cNvGrpSpPr/>
            <p:nvPr/>
          </p:nvGrpSpPr>
          <p:grpSpPr>
            <a:xfrm>
              <a:off x="1835280" y="2809440"/>
              <a:ext cx="2381040" cy="2995920"/>
              <a:chOff x="1835280" y="2809440"/>
              <a:chExt cx="2381040" cy="2995920"/>
            </a:xfrm>
          </p:grpSpPr>
          <p:sp>
            <p:nvSpPr>
              <p:cNvPr id="80" name="直接连接符 28"/>
              <p:cNvSpPr/>
              <p:nvPr/>
            </p:nvSpPr>
            <p:spPr>
              <a:xfrm flipV="1">
                <a:off x="1835280" y="5300640"/>
                <a:ext cx="4680" cy="504720"/>
              </a:xfrm>
              <a:prstGeom prst="line">
                <a:avLst/>
              </a:prstGeom>
              <a:ln w="76320">
                <a:solidFill>
                  <a:srgbClr val="604a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" name="椭圆 29"/>
              <p:cNvSpPr/>
              <p:nvPr/>
            </p:nvSpPr>
            <p:spPr>
              <a:xfrm rot="5864400">
                <a:off x="3936240" y="282600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82" name="TextBox 31"/>
          <p:cNvSpPr/>
          <p:nvPr/>
        </p:nvSpPr>
        <p:spPr>
          <a:xfrm>
            <a:off x="324000" y="2276640"/>
            <a:ext cx="2879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Trebuchet MS"/>
                <a:ea typeface="Times New Roman"/>
              </a:rPr>
              <a:t>Проблемы по организации приемки и экспертизы продуктов пит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1908000" y="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отсутствие единых правил проведения экспертизы силами заказч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TextBox 42"/>
          <p:cNvSpPr/>
          <p:nvPr/>
        </p:nvSpPr>
        <p:spPr>
          <a:xfrm>
            <a:off x="3564000" y="90792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разрозненность процессов приемки и работы с электронными ветеринарными документа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TextBox 46"/>
          <p:cNvSpPr/>
          <p:nvPr/>
        </p:nvSpPr>
        <p:spPr>
          <a:xfrm>
            <a:off x="4211640" y="2205000"/>
            <a:ext cx="47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отсутствие средств на привлечение внешних экспертов для проведения исследований по каждой партии продук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椭圆 29"/>
          <p:cNvSpPr/>
          <p:nvPr/>
        </p:nvSpPr>
        <p:spPr>
          <a:xfrm rot="5864400">
            <a:off x="4371840" y="4452840"/>
            <a:ext cx="263520" cy="263520"/>
          </a:xfrm>
          <a:prstGeom prst="ellipse">
            <a:avLst/>
          </a:prstGeom>
          <a:noFill/>
          <a:ln w="7632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TextBox 52"/>
          <p:cNvSpPr/>
          <p:nvPr/>
        </p:nvSpPr>
        <p:spPr>
          <a:xfrm>
            <a:off x="4716360" y="378936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необходимость обучения значительного количества сотрудников, задействованных в приемк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椭圆 29"/>
          <p:cNvSpPr/>
          <p:nvPr/>
        </p:nvSpPr>
        <p:spPr>
          <a:xfrm rot="5864400">
            <a:off x="1708200" y="5821200"/>
            <a:ext cx="263520" cy="263520"/>
          </a:xfrm>
          <a:prstGeom prst="ellipse">
            <a:avLst/>
          </a:prstGeom>
          <a:noFill/>
          <a:ln w="7632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TextBox 57"/>
          <p:cNvSpPr/>
          <p:nvPr/>
        </p:nvSpPr>
        <p:spPr>
          <a:xfrm>
            <a:off x="2124000" y="537372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сложность законодательства в сфере стандартизации (требования к качеству товаров, их маркировке, упаковке и т.д. регламентируется большим количеством ГОСТ, ТР ТС и т.д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Алгоритм выявления фальсификата с помощью эВСД (электронных ветеринарных сопроводительных документов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Picture 3" descr="C:\Users\naydenkovayd\Desktop\i - копия.jpg"/>
          <p:cNvPicPr/>
          <p:nvPr/>
        </p:nvPicPr>
        <p:blipFill>
          <a:blip r:embed="rId1"/>
          <a:stretch/>
        </p:blipFill>
        <p:spPr>
          <a:xfrm>
            <a:off x="250920" y="3860640"/>
            <a:ext cx="224784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naydenkovayd\Desktop\2a74bb5s-1920.jpg"/>
          <p:cNvPicPr/>
          <p:nvPr/>
        </p:nvPicPr>
        <p:blipFill>
          <a:blip r:embed="rId2"/>
          <a:stretch/>
        </p:blipFill>
        <p:spPr>
          <a:xfrm>
            <a:off x="2627280" y="4292640"/>
            <a:ext cx="2065320" cy="504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8"/>
          <p:cNvSpPr/>
          <p:nvPr/>
        </p:nvSpPr>
        <p:spPr>
          <a:xfrm>
            <a:off x="0" y="692280"/>
            <a:ext cx="468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10253f"/>
                </a:solidFill>
                <a:uFillTx/>
                <a:latin typeface="Trebuchet MS"/>
                <a:ea typeface="Times New Roman"/>
              </a:rPr>
              <a:t>Факторы риска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10253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f6228"/>
                </a:solidFill>
                <a:latin typeface="Trebuchet MS"/>
                <a:ea typeface="Times New Roman"/>
              </a:rPr>
              <a:t>несоответствие информации о дате выработки продукции в эВСД, информации, указанной на маркировке/упаковке товара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4f6228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несоответствие эВСД номерных знаков транспортного средства;</a:t>
            </a: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buClr>
                <a:srgbClr val="9966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rebuchet MS"/>
                <a:ea typeface="Times New Roman"/>
              </a:rPr>
              <a:t>несоответствие эВСД маршрута следован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Прямоугольник 22" hidden="1"/>
          <p:cNvSpPr/>
          <p:nvPr/>
        </p:nvSpPr>
        <p:spPr>
          <a:xfrm>
            <a:off x="7812000" y="3645000"/>
            <a:ext cx="86364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Стрелка вправо 27"/>
          <p:cNvSpPr/>
          <p:nvPr/>
        </p:nvSpPr>
        <p:spPr>
          <a:xfrm rot="20895000">
            <a:off x="1533600" y="4797000"/>
            <a:ext cx="792000" cy="71640"/>
          </a:xfrm>
          <a:prstGeom prst="rightArrow">
            <a:avLst>
              <a:gd name="adj1" fmla="val 50000"/>
              <a:gd name="adj2" fmla="val 4985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Picture 4" descr="C:\Users\naydenkovayd\Desktop\Новая папка\DOC000_page-0001.jpg"/>
          <p:cNvPicPr/>
          <p:nvPr/>
        </p:nvPicPr>
        <p:blipFill>
          <a:blip r:embed="rId3"/>
          <a:stretch/>
        </p:blipFill>
        <p:spPr>
          <a:xfrm>
            <a:off x="4716360" y="620640"/>
            <a:ext cx="4211640" cy="6048360"/>
          </a:xfrm>
          <a:prstGeom prst="rect">
            <a:avLst/>
          </a:prstGeom>
          <a:ln w="0">
            <a:noFill/>
          </a:ln>
        </p:spPr>
      </p:pic>
      <p:cxnSp>
        <p:nvCxnSpPr>
          <p:cNvPr id="97" name="Прямая со стрелкой 25"/>
          <p:cNvCxnSpPr/>
          <p:nvPr/>
        </p:nvCxnSpPr>
        <p:spPr>
          <a:xfrm>
            <a:off x="4066920" y="2204640"/>
            <a:ext cx="3601080" cy="1369080"/>
          </a:xfrm>
          <a:prstGeom prst="straightConnector1">
            <a:avLst/>
          </a:prstGeom>
          <a:ln w="28440">
            <a:solidFill>
              <a:srgbClr val="4f6228"/>
            </a:solidFill>
            <a:miter/>
            <a:tailEnd len="med" type="arrow" w="med"/>
          </a:ln>
        </p:spPr>
      </p:cxnSp>
      <p:cxnSp>
        <p:nvCxnSpPr>
          <p:cNvPr id="98" name="Прямая со стрелкой 38"/>
          <p:cNvCxnSpPr/>
          <p:nvPr/>
        </p:nvCxnSpPr>
        <p:spPr>
          <a:xfrm>
            <a:off x="4787640" y="3213000"/>
            <a:ext cx="1369080" cy="1008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9" name="Прямая со стрелкой 41"/>
          <p:cNvCxnSpPr/>
          <p:nvPr/>
        </p:nvCxnSpPr>
        <p:spPr>
          <a:xfrm flipV="1">
            <a:off x="4932360" y="4581000"/>
            <a:ext cx="1944000" cy="10087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Алгоритм выявления фальсификата с учетом Реестра деклараций соответствия на сайте Росаккредитации </a:t>
            </a:r>
            <a:r>
              <a:rPr b="1" lang="ru-RU" sz="1800" spc="-1" strike="noStrike">
                <a:solidFill>
                  <a:srgbClr val="254061"/>
                </a:solidFill>
                <a:latin typeface="Trebuchet MS"/>
                <a:ea typeface="Times New Roman"/>
              </a:rPr>
              <a:t>https://pub.fsa.gov.ru/rds/declaration</a:t>
            </a:r>
            <a:r>
              <a:rPr b="1" lang="ru-RU" sz="18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1" name="Picture 6" descr="C:\Users\naydenkovayd\Desktop\Мясо.png"/>
          <p:cNvPicPr/>
          <p:nvPr/>
        </p:nvPicPr>
        <p:blipFill>
          <a:blip r:embed="rId1"/>
          <a:stretch/>
        </p:blipFill>
        <p:spPr>
          <a:xfrm>
            <a:off x="108000" y="620640"/>
            <a:ext cx="5904000" cy="303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naydenkovayd\Desktop\масло.png"/>
          <p:cNvPicPr/>
          <p:nvPr/>
        </p:nvPicPr>
        <p:blipFill>
          <a:blip r:embed="rId2"/>
          <a:stretch/>
        </p:blipFill>
        <p:spPr>
          <a:xfrm>
            <a:off x="108000" y="3789360"/>
            <a:ext cx="5904000" cy="2952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>
            <a:off x="6012000" y="692280"/>
            <a:ext cx="298764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254061"/>
                </a:solidFill>
                <a:uFillTx/>
                <a:latin typeface="Trebuchet MS"/>
                <a:ea typeface="Times New Roman"/>
              </a:rPr>
              <a:t>Факторы риск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254061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54061"/>
                </a:solidFill>
                <a:latin typeface="Trebuchet MS"/>
                <a:ea typeface="Times New Roman"/>
              </a:rPr>
              <a:t>отсутствие  в Реестре информации о декларации соответствия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54061"/>
                </a:solidFill>
                <a:latin typeface="Trebuchet MS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254061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54061"/>
                </a:solidFill>
                <a:latin typeface="Trebuchet MS"/>
                <a:ea typeface="Times New Roman"/>
              </a:rPr>
              <a:t>несоответствие представленной поставщиком декларации сведениям Реестра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254061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254061"/>
                </a:solidFill>
                <a:latin typeface="Trebuchet MS"/>
                <a:ea typeface="Times New Roman"/>
              </a:rPr>
              <a:t>наличие в Реестре информации о статусе действия декларации – прекращено или приостановлено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rebuchet MS"/>
                <a:ea typeface="Times New Roman"/>
              </a:rPr>
              <a:t>Типовые инструкции по организации приемки  и экспертизы продуктов питания по государственным (муниципальным) контрактам и договора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" name="Picture 6" descr="C:\Users\naydenkovayd\Desktop\говяд.png"/>
          <p:cNvPicPr/>
          <p:nvPr/>
        </p:nvPicPr>
        <p:blipFill>
          <a:blip r:embed="rId1"/>
          <a:stretch/>
        </p:blipFill>
        <p:spPr>
          <a:xfrm>
            <a:off x="324000" y="907920"/>
            <a:ext cx="2666880" cy="561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Users\naydenkovayd\Desktop\масло.png"/>
          <p:cNvPicPr/>
          <p:nvPr/>
        </p:nvPicPr>
        <p:blipFill>
          <a:blip r:embed="rId2"/>
          <a:stretch/>
        </p:blipFill>
        <p:spPr>
          <a:xfrm>
            <a:off x="3203640" y="1052640"/>
            <a:ext cx="2663640" cy="5608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Users\naydenkovayd\Desktop\молоко.png"/>
          <p:cNvPicPr/>
          <p:nvPr/>
        </p:nvPicPr>
        <p:blipFill>
          <a:blip r:embed="rId3"/>
          <a:stretch/>
        </p:blipFill>
        <p:spPr>
          <a:xfrm>
            <a:off x="6084720" y="1197000"/>
            <a:ext cx="266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10:12:15Z</dcterms:created>
  <dc:creator>Petrova</dc:creator>
  <dc:description/>
  <dc:language>en-US</dc:language>
  <cp:lastModifiedBy>kalashnikovana</cp:lastModifiedBy>
  <dcterms:modified xsi:type="dcterms:W3CDTF">2021-09-06T08:55:23Z</dcterms:modified>
  <cp:revision>991</cp:revision>
  <dc:subject/>
  <dc:title>Слайд 1</dc:title>
</cp:coreProperties>
</file>